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90E-1FBD-40A4-A7F0-F3472D8B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A42-2E25-40F4-940C-03CF453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D67-2145-4002-8314-7E9F5AB3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BBA-1922-43F2-B41E-4DE299DE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4CDF-C640-44D5-AC71-D8FF82A8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CE2A-11FD-441F-958D-6BD8A5A0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773C-D51F-4289-A91D-05BFE83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6A2F-592A-42BD-B8C0-55ACE8C0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2CAB-D11E-4E8D-B47A-4B2E633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B0F5-DA98-4192-B27A-A6BDF08E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4669-619A-4FE7-814F-C851CBA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93A-35D6-4660-B60F-24A69F8C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67D8-FA7E-477A-B0B8-6605D97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955C-E830-4BA2-9099-937EA144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92AB-9232-457F-9CB5-D1F13CEA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AAF-1642-4362-91E4-2F5E2475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B30-F39A-4B96-964D-E0D72086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2E85-6889-400A-BA04-F1259B7B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22BE-EEB9-41A9-8EF9-F624358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FCC8-F391-4D37-969D-8C085BB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FB91-1446-49C9-922D-2C4EBFD8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D28B-DD03-44A1-A4DC-AB3258DD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D6A-D809-4344-B8DA-B2D875E7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D447-611B-4E80-9244-493598E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3B8C5-3009-4D47-9D2C-B07698D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4183-90CA-4EF3-AAE3-DAD47AB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4F37-2368-4675-AB7C-BDF5CB6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22B6-D7E6-4E0F-8BBF-70F29044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ECA9-A447-4E54-B413-2E77C62D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9D5B-8D35-4387-93B2-E461B71C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4C58-32C7-42B0-9A82-7B03CF89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1BE4-FA94-42F6-B939-BBBE2C5C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E2ED-66F4-49F4-83F9-19C57C12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464-7068-4FCC-B184-698DD6C0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D772-A181-413D-B463-0A5D5080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39CD-550C-4A37-AA63-34AFEEF4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9461-5DC8-473F-8E4B-4DBFCE8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629B-E5ED-4D69-B198-3F09549F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A9E1-85C4-4D66-B342-E84A46E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0BF4-4021-4B72-B20E-89E77119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4D99-CE62-4A59-A549-BA5CDC3D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A4C7-4EBD-446E-AF74-C38B227E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1834-F8A6-4B56-9FD0-9C8D6FC9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E19-4321-4F7E-BA6D-869F5F8A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A06-0D7D-4D1A-A234-4AC3739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F71-65E2-42D4-A262-8D70D3F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C22-D800-4CE9-9411-5A73A71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8BB-D335-413B-B937-CEAAC3B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2B3A-4304-4B20-986B-C1DE2E2714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BA36-234D-48A5-A1BC-6004D1FAE2E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6EC0-CFFF-4EDC-A4C1-3EE2DE7F6B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041-34A7-4969-917D-10E70AAD22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9040" y="1000080"/>
            <a:ext cx="7772400" cy="2017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214440"/>
            <a:ext cx="6400800" cy="2423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  <a:ea typeface="Tahoma"/>
              </a:rPr>
              <a:t>Тема: Особенности нотариального удостоверения отдельных видов сдело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доверенност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889280"/>
            <a:ext cx="825480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рок доверен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0188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орма доверенности -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простая письменная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доверенность выдается для совершения сделок, требующих нотариальной формы, она должна быть нотариально удостоверена. В п. 3 ст. 185 ГК РФ предусмотрены виды доверенностей, приравниваемых по юридической силе к нотариально удостоверенны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 нотариально удостоверенным приравниваютс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оверенности, удостоверенны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чальниками мест лишения свободы в отношении доверителей, содержащихся в этих учреждениях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дминистрацией учреждений соцзащиты населения или руководителем (его заместителем) соответствующего органа соцзащиты в отношении совершеннолетних дееспособных граждан, находящихся в учреждениях социальной защи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оверенности на получение зарплаты, иных платежей,  корреспонденции, авторского вознаграждения, вкладов в банки, удостоверенны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рганизацией, в которой работает или учится доверитель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ЭО по месту жительства доверител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дминистрацией стационарного лечебного учреждения, в котором находится доверител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ahoma"/>
                <a:ea typeface="Tahoma"/>
              </a:rPr>
              <a:t>Нотариус удостоверяет доверенности от имени одного или нескольких лиц, на имя одного или нескольких лиц.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 тем, как заверить доверенность, нотариус обяза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итать лицу ее текс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упредить о юридических последствиях совершения данной доверен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ъяснить порядок отмены доверен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 доверенности должны быть указан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сто и дата ее подпис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едения о лицах, подписавших доверенность, а именн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отношении физических лиц – ФИО, дата рождения, реквизиты документа, удостоверяющего личность, адрес ПМЖ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отношении ЮЛ – полное наименование ЮЛ, ИНН, юридический адрес, дата и место государственно регистрации, № свидетельства о регистрации, адрес фактического местонахож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доверенности должны быть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тко указаны передаваемые полномоч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ания прекращения довереннос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ечение срока доверен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ершения действия, предусмотренного доверенность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мена доверенности лицом, выдавшим ее, т.е. представляемы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аз представителя от доверен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кращение юридического лица (представителя или представляемого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мерть представителя либо представляемого, признание любого из них недееспособным, ограниченно дееспособным или безвестно отсутствующ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рачный догов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глашение лиц, вступающих в брак или соглашение супругов, в котором определены имущественные права и обязанности супругов в браке, а также в случае его растор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а – письменная, нотариально удостоверенна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мет брачного договора – правовой режим имущества супруг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держание брачного догово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а и обязанности супругов по взаимному содержан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 участия в доходах друг друг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ядок участия в совместных расход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рядок передачи имущества каждому из супругов в случае расторжения бра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никновение прав и обязанностей может быть поставлено в зависимость от наступления определенных  сроков или событ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граничения в содержании брачного догово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БД не могут быть включены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граничение правоспособности или дееспособности супругов, права на обращение в суд за защитой своих прав и интерес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мещение личных неимущественных отношений между супругами, прав и обязанностей супругов в отношении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ловия, ограничивающие право нетрудоспособного нуждающегося супруга на получение содерж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ловия, которые ставят одного из супругов в неблагоприятное поло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 Удостоверение довереннос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Удостоверение брачного догово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3.  Удостоверение соглашения об уплате алимент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4. Удостоверение завещ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глашение об уплате алимент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ключается между лицом, обязанным уплачивать алименты, и получател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ладает силой исполнительного листа и обязательно для исполн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а – письменная, нотариально удостоверенная (несоблюдение формы влечет недействительность соглашени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ороны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лучатель алиментов и плательщик алиментов (супруги,  братья, сестры, отчимы, пасынки, падчерицы, т.е. члены  семь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случаях недееспособности одной или обеих сторон сторонами соглашения являются их законные представите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удостоверении соглашения, одна из сторон которого является неполностью дееспособной, нотариус истребует письменное согласие законного представителя такой сторо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тариус проверяет существенные услов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еме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оглашения  (устанавливается соглашением сторон, но не ниже того предела, как если бы он был взыскан по суду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особ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уплаты 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оле к заработку или другому доходу плательщи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неизменной денежной сумме, уплачиваемой периодичес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твердой денежной сумме единовременн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тем предоставления имуще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ыми способами, определенными соглашением сторо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о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ыплаты (определяются сторонам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ме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алиментов (определяется сторонами, должен быть индексирован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вещ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ичное распоряжение гражданина на случай смерти по поводу принадлежащего ему имущества с назначением наследников, сделанное в установленной законом форм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изнаки и принципы завещ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329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  <a:ea typeface="Tahoma"/>
              </a:rPr>
              <a:t>Признание завещания недействительны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ние может быть признан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действительны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о общим основаниям, установленным законом для признания сделок недействительными (ст. 168-179 ГК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ак, в зависимости от обстоятельств может быть признано недействительным завеща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соответствующее закону или иным правовым акта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ершенное гражданином, не обладающим дееспособностью в полном объем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ершенное гражданином, не способным понимать значение своих действий или руководить и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ершенное под влиянием обмана, насилия, угрозы и т.п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ahoma"/>
                <a:ea typeface="Tahoma"/>
              </a:rPr>
              <a:t>Специальные основания признания завещания недействительным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вещание может быть признано судом недействительным по иску лица, права или законные интересы которого нарушены этим завещанием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астные основания недействительности завещани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азваны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. 3 ст. 1124 ГК,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вязаны они с фактом присутствия при совершении завеща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видетел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Присутствие свидетеля при совершении завещания может иметь место по желанию завещателя (при нотариальном удостоверении завещания). Вместе с тем Кодексом названы основания, когда присутствие свидетеля при совершении завещания является обязательным (закрытое завещание и завещание, совершенное в чрезвычайных обстоятельствах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случае, когда по желанию завещателя либо в определенных законом случаях при составлении, подписании, удостоверении завещания или при передаче завещания нотариусу присутствуют свидетели, не могут быть такими свидетелями и не могут подписывать завещание вместо завещателя (п. 2 ст. 1124 ГК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отариус или другое удостоверяющее завещание лицо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ицо, в пользу которого составлено завещание или сделан завещательный отказ, супруг такого лица, его дети и родител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раждане, не обладающие дееспособностью в полном объем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грамотны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раждане с такими физическими недостатками, которые явно не позволяют им в полной мере осознавать существо происходящего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ица, не владеющие в достаточной степени языком, на котором составлено завещание, за исключением случая, когда составляется закрытое завещание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орма завещ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ние должно быть составлено 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исьменной форме и удостоверено нотариусо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оэтому несоблюдение формы завещания влечет его ничтож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достоверение завещания другими лицами допускается в случаях, предусмотренных п. 7 ст. 1125 (должностными лицами органов исполнительной власти или органов местного самоуправления в предусмотренных законом случаях), ст. 1127 (завещания, приравненные к нотариально удостоверенным) и п. 2 ст. 1128 ГК (завещательные распоряжения правами на денежные средства в банках - уполномоченным служащим банка) и  в случаях, предусмотренных ст. 1129 Г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Место удостоверения завещания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 любой государственной нотариальной конторе, у любого нотариуса, занимающегося частной практикой, а также в случаях, предусмотренных законом, - должностным лицом любого органа местного самоуправления (в населенных пунктах, где не имеется нотариальных контор) или консульского учрежд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есто жительства завещателя при нотариальном удостоверении завещания значения не имеет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обенностью является только удостоверение завещания с выездом нотариуса за пределы его нотариального округа. В соответствии со ст. 13 Основ законодательства РФ о нотариате нотариус вправе выехать в другой нотариальный округ для удостоверения завещания в случае тяжелой болезни завещателя при отсутствии в нотариальном округе в это время нотариус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авом толкования завещания наделены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Содержимое 3" descr=""/>
          <p:cNvPicPr/>
          <p:nvPr/>
        </p:nvPicPr>
        <p:blipFill>
          <a:blip r:embed="rId1"/>
          <a:stretch/>
        </p:blipFill>
        <p:spPr>
          <a:xfrm>
            <a:off x="457200" y="1925640"/>
            <a:ext cx="82296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следниками по завещанию могут являться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Содержимое 3" descr=""/>
          <p:cNvPicPr/>
          <p:nvPr/>
        </p:nvPicPr>
        <p:blipFill>
          <a:blip r:embed="rId1"/>
          <a:stretch/>
        </p:blipFill>
        <p:spPr>
          <a:xfrm>
            <a:off x="444600" y="1932120"/>
            <a:ext cx="83088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вить и уяснить  особенности нотариального удостоверения доверенностей, брачного договора, соглашения об уплате алиментов, завещ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вещательных распоряжени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847880"/>
            <a:ext cx="8254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равила  удостоверения завещ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Содержимое 3" descr=""/>
          <p:cNvPicPr/>
          <p:nvPr/>
        </p:nvPicPr>
        <p:blipFill>
          <a:blip r:embed="rId1"/>
          <a:stretch/>
        </p:blipFill>
        <p:spPr>
          <a:xfrm>
            <a:off x="444600" y="1908000"/>
            <a:ext cx="83455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им образом, в обязательном порядке с соблюдением требований законодательства к тексту документа, удостоверяются нотариусом доверенности, выдаваемые гражданами; брачные договоры, соглашения об уплате алиментов и завещ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сновная учебная литерату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обед М.А.  Нотариат в Российской Федерации. - М. : ОМЕГА-ЭЛ.- 20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рмативно-правовые ак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Конституция РФ 199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3 от 26.11.2001 №146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ражданский кодекс РФ. ч. 4 от 18.12.2006.№230-Ф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мейный кодекс РФ от 29.12.1995 №223-ФЗ (с последующими изменениями и дополнениями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ормативно-правовые акты (продолжение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Постановление Правительства РФ от 27.05.2002 №351 «Об утверждении Правил совершения завещательных  распоряжений правами на денежные средства в банках»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Приказ Минюста РФ от 10.04.2002 №99 «Об утверждении Форм реестров  для регистрации нотариальных действий, нотариальных свидетельств и удостоверительных надписей на сделках и свидетельствуемых документах»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нструкции о порядке удостоверения завещаний и доверенностей командирами (начальниками) воинских частей, соединений, учреждений и военно-учебных заведений, начальниками, их заместителями по медицинской части, старшими и дежурными врачами госпиталей, санаториев и других военно-лечебных учреждений, утвержденной Минюстом СССР по согласованию с Минобороны СССР 15 марта 1974 г.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нструкции о порядке удостоверения завещаний и доверенностей начальниками мест лишения свободы, утвержденной Минюстом СССР по согласованию с МВД СССР 14 марта 1974 г.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нструкции о порядке удостоверения завещаний главными врачами, их заместителями по медицинской части или дежурными врачами больниц, других стационарных лечебно-профилактических учреждений, санаториев, а также директорами и главными врачами домов для престарелых и инвалидов, утвержденной Минюстом СССР 20 июня 1974 г.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нструкции о порядке удостоверения завещаний капитанами морских судов или судов внутреннего плавания, утвержденной Минюстом СССР 20 мая 1974 г.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нструкции о порядке удостоверения завещаний начальниками разведочных, арктических и других подобных им экспедиций, утвержденной Минюстом СССР 29 июня 1974 г.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поня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верен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верите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ере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тел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следование по зако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следование по завещани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тельный отк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тельное распоря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ещательное возложе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глашение об уплате алимен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рачный догов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5" descr=""/>
          <p:cNvPicPr/>
          <p:nvPr/>
        </p:nvPicPr>
        <p:blipFill>
          <a:blip r:embed="rId1"/>
          <a:stretch/>
        </p:blipFill>
        <p:spPr>
          <a:xfrm>
            <a:off x="444600" y="1414440"/>
            <a:ext cx="8254800" cy="4919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редставительство -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совершение юридических действий одним лицом от имени другого лица.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Tahoma"/>
                <a:ea typeface="Tahoma"/>
              </a:rPr>
              <a:t>Признаки: 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веренность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письменное уполномочие, выдаваемое одним лицом (представляемым) другому лицу (представителю) для представительства перед третьими лицами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4-10-31T15:59:50Z</dcterms:modified>
  <cp:revision>12</cp:revision>
  <dc:subject/>
  <dc:title>Лекция 5.</dc:title>
</cp:coreProperties>
</file>