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7BD-2EEB-41CA-9B5D-9A44EC85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235-A3AB-499C-AF36-1DBC93EE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E45-623C-4A1C-9834-90B27601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3B4-7DC3-4041-941A-5DAF4E93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FD06-A44A-431E-BBB6-1BEFCFDA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4B8-B6E9-4F6B-8E4D-DBB27517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1185-64BF-4FA0-B171-7EBE1329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4687-1847-4D97-AB88-88B67EB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F03-56D7-4822-9A5B-F9095583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38F-33B9-4B23-98E0-D1F26AA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60A7-8AC9-4E73-8D23-2253628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158-52A7-4C25-A08A-B301B7E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8428-D6CE-49CB-984A-F2C2324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7AB-3DC3-4427-92B3-9299BD3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A60F-96A4-495A-96BF-27729D1D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DD91-B699-4BB5-A6F6-A8151B3C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D698-C380-4217-8EB8-1914884B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864-A9A6-4F85-B703-65593EE2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00A-9A76-4385-82D9-5BF8AD3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B31-FF2B-4D3D-B86D-615DED6B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840-6744-4429-9D7D-6544573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8C9-93EB-4BB9-9687-9F3C3914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3C6-200C-4097-BBD3-6B61ABC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A47-6B58-4DF4-8A7A-935DC95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3056-75EC-495C-9D16-BEEDFCEF46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04D-6805-4E14-BC99-DB04967B74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Лекция 2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2708280"/>
            <a:ext cx="853452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: Организационные основы нотариальн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лномочия нотариальной палаты (ст. 25 ОЗоН 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яют и защищают интересы нотариу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ывает помощь в развитии частной нотариаль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ует стажировку лиц, претендующих на должность нотариу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ует повышение профессиональной подготовки нотариу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ещает затраты на экспертизы, назначенные судом, по делам, связанным с деятельностью нотариу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ует страхование нотариальной дееспосо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едеральная нотариальная пала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некоммерческой организацией, представляющей собой профессиональное объединение нотариальных палат субъектов РФ. Федеральная нотариальная палата является юридическим лицом и организует свою деятельность на принципа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амоуправл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Деятельность Федеральной нотариальной палаты осуществляется в соответствии с законодательством РФ 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тав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в Федеральной нотариальной палаты принимае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рание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ставител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тариальных пала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регистрируется в порядке, установленном для регистрации уставов общественных объеди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рганы федеральной нотариальной пала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62120" y="1752480"/>
            <a:ext cx="358128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3352680"/>
            <a:ext cx="815328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ший орган – собрание представ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тариальных пал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181480" y="4952880"/>
            <a:ext cx="358164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ид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Федеральная нотариальная палат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уществляет координацию деятельности нотариальных пала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 интересы нотариальных палат в органах государственной власти и управления, предприятиях, учреждениях, организация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ивает защиту социальных и профессиональных прав нотариусов, занимающихся частной практик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ует в проведении экспертиз проектов законов РФ по вопросам, связанным с нотариальной деятельност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ивает повышение квалификации нотариусов, стажеров и помощников нотариу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изует страхование нотариаль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яет интересы нотариальных палат в международных организац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57200" y="142524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соответствии со ст. 2 Основ законодательства РФ о нотариат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 должность нотариуса в Российской Федер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значает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орядке, установленном Основам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ин РФ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щий высшее юридическое образован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шедший стажировку сроком не менее одного г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сударственной нотариальной конторе или у нотариуса, занимающегося частной практико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давший квалификационный экзаме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щий лицензию на право нотариальной деятель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Гражданство Р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бование гражданства РФ объясняется особым статусом нотариуса, публично-правовым характером нотариальной деятельности. По смыслу Основ недопустимым для нотариуса является и наличие двойного гражда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ысшее юридическое образовани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альная деятельность имеет разносторонний характер и при этом не знает какой-либо предметной специализации. Поэтому наличие высшего юридического образования предполагает у соискателя должности нотариуса определенного уровня подготовки. В практике приема квалификационных экзаменов возникали вопросы о юридической силе дипломов негосударственных высших учебных заведений. Полагается, что в силу законодательства об образовании они имеют такую же юридическую силу, однако соответствующие вузы, выдающие дипломы, должны иметь государственную аккредит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ажировк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ядок прохождения стажировки в настоящее время регулируется приказом Министерства юстиции РФ от 21 июня 2000 г. N 179 "Об утверждении Порядка прохождения стажировки лицами, претендующими на должность нотариуса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общему правил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р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ажировки не может быть мене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ного 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государственной нотариальной конторе или у нотариуса, занимающегося частной практикой. Срок стажировки для лиц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меющих ст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боты по юридической специальност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менее трех л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может быть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краще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вместным решением органа юстиции и нотариальной палаты. Продолжительность стажировк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может быть менее шести месяце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Срок стажировки может быть продлен на время болезни стажера или его отсутствия по другим уважительным причинам совместным решением органа юстиции и нотариальной пала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дача квалификационного экзаме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лификационный экзамен сдается квалификационной комиссии, которая создается в каждом субъекте РФ совместным решением органа юстиции и нотариальной палаты числом от 7 до 11 человек. Лицо, желающее сдать экзамен, подает заявление в орган юстиции по месту жительства. К заявлению прилагаю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пия диплома о высшем юридическом образов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кумент, подтверждающий прохождение стажиров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кумент банка об оплате сб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тографии 3*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даче заявления предъявляется документ, удостоверяющий лич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лификационная комиссия принимает решение, если на заседании присутствует не менее 2/3 голосов. Голосование открытое. Копия решения выдается заявителю в день сдачи экзамена. Лицо, не выдержавшее экзамен, допускается к повторной сдаче не менее чем через 1 год. Решение квалификационной комиссии может быть обжаловано в апелляционную комиссию в срок один месяц со дня вручения его копии лицу, а затем – в су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ыдача лицензии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сдавшее квалификационный экзамен, не позднее 5 дней со дня принятия решения квалификационной комиссией представляет в орган юстиции заявление о выдаче лицензии на право нотариальной деятельности и документ, подтверждающий уплату сбора за выдачу лицензии на право нотариальной деятельности в размере 5-кратного установленного законом размера минимальной оплаты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органов нотариата в РФ. Правовой статус нотариальных пал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учреждения и ликвидации должности «нотариу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вой статус нотариуса: права, обязанности,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значение на должнос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ответствии со ст. 12 Основ законодательства РФ о нотариате должность нотариуса учреждается и ликвидируется органом юстиции совместно с нотариальной палатой. Количество должностей нотариусов в нотариальной округе также определяется их совместным реш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сно ч. 3 ст. 12 Основ законодательства РФ о нотариате наделение нотариуса полномочиями производится на основании рекомендации нотариальной палаты Министерством юстиции РФ или по его поручению органом юстиции на конкурсной основе из числа лиц, имеющих лиценз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свобождение нотариуса от долж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ус, занимающийся частной практикой, слагает полномочия по собственному желанию либо освобождается от полномочий на основании решения суда о лишении его права нотариальной деятельности в случая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осуждения его за совершение умышленного преступления - после вступления приговора в законную сил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граничения дееспособности или признания недееспособным в установленном законом поряд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по ходатайству нотариальной палаты за неоднократное совершение дисциплинарных проступков, нарушение законодательства, а также в случае невозможности исполнять профессиональные обязанности по состоянию здоровья (при наличии медицинского заключения) и в других случаях, предусмотренных законодательными актами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свобождение нотариуса от должност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бождение от полномочий нотариуса может быть произведено как по уважительным причинам (невозможность исполнения профессиональных обязанностей по состоянию здоровья), так и по неуважительным причинам (за неоднократное совершение дисциплинарных проступков, нарушение законодательств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авовой статус нотариуса: права, обязанности, ответственность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09480" y="1752480"/>
            <a:ext cx="495324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57200" y="3733920"/>
            <a:ext cx="236232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429000" y="3733920"/>
            <a:ext cx="327672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пециальн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5486400"/>
            <a:ext cx="335268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яза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1980720" y="2971800"/>
            <a:ext cx="11430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124080" y="2971800"/>
            <a:ext cx="8384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724280" y="5562720"/>
            <a:ext cx="426744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бщие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функциональные права нотариус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сно ст. 8 Основ законодательства РФ о нотариате нотариус, занимающийся частной практикой, вправе иметь контору, открывать в любом банке расчетный и другие счета, в том числе валютный, иметь имущественные и личные неимущественные права и обязанности, нанимать и увольнять работников, распоряжаться поступившим доходом, выступать в суде, арбитражном суде от своего имени и совершать другие действия в соответствии с законодательством РФ и республик в составе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ус вправе пользоваться услугами системы государственного социального обеспечения, медицинского и социального страхования в порядке, установленном законодательством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пециальны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рава нотариус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ус вправ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ршать предусмотренные Основами законодательства РФ о нотариате нотариальные действия в интересах физических и юридических лиц, обратившихся к нему, за исключением случаев, когда место совершения нотариального действия определено законодательством РФ или международными договор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лять проекты сделок, заявлений и других документов, изготовлять копии документов и выписки из них, а также давать разъяснения по вопросам совершения нотариальных действ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ребовать от физических и юридических лиц сведения и документы, необходимые для совершения нотариальных действ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бяза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обязанности нотариуса предусмотрены целым рядом статей Основ законодательства РФ о нотариате (ст. 5, 6, 9, 10, 16, 18, 22, 24, 28 и др.). Обязанности нотариуса можно подразделять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должностные, связанные с соблюдением правил нотариального произво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исполняемые в отношении лиц, обратившихся за совершением нотариальных действ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вытекающие из членства в нотариальной пала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связанные с самостоятельным ведением нотариусом финансово-хозяйствен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связанные с исполнением обязанностей перед различными государственными органам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тветственность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и нотариуса посвящена ст. 17 Основ законодательства РФ о нотариате. Нотариус, работающий в государственной нотариальной конторе, в случае совершения действий, противоречащих законодательству РФ, несет дисциплинарную ответственность в установленном законом порядке, а именно Трудовым кодексом РФ. Вред, причиненный гражданину в результате незаконных действий государственного нотариуса, возмещается за счет казны РФ (ст. 1069 ГК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ус, занимающийся частной практикой, умышленно разгласивший сведения о совершенном нотариальном действии или совершивший нотариальное действие, противоречащее законодательству РФ, обязан по решению суда возместить причиненный вследствие этого ущер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им образом,  в данной лекции мы определили органы и должностные лица, уполномоченные законом на совершение нотариальных действи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ели особенности правового статуса и ответственности нотариу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новная учебная литер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обед М.А.  Нотариат в Российской Федерации. - М. : ОМЕГА-ЭЛ.-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рмативно-правовые ак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итуция РФ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3 от 26.11.2001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4 от 18.12.2006.№230-Ф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от 29.12.1995 №223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Ц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ть органы нотариата и систему управления нотариальной деятель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правовой статус нотариусов и иных должностных лиц, уполномоченных  совершать нотариальные действия, выявить их права и обязанности, порядок назначения  на должность и снятия с должности, финансовое обеспечение деятельности нотариу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23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Palatino Linotype"/>
              </a:rPr>
              <a:t>Основные понятия лекции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100760" cy="496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альное производ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ж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ник нотари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8000" y="1483920"/>
            <a:ext cx="4171680" cy="5040360"/>
          </a:xfrm>
          <a:prstGeom prst="rect">
            <a:avLst/>
          </a:prstGeom>
          <a:solidFill>
            <a:srgbClr val="ff9900"/>
          </a:solidFill>
          <a:ln w="9360">
            <a:solidFill>
              <a:srgbClr val="33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альная пал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едеральная нотариальная пал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в нотариальной пал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а, обязанности, ответственность нотари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аничения в деятельности нотари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истема органов нотариата в РФ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стерство юстиции Р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стерства юстиции республик в составе РФ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ы юстиции субъектов РФ в их составе – отделы нотари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Государственные             и                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отариальные конт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отариальная пала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коммерческая организация, представляющая собой профессиональное объединение, основанное на обязательном членстве нотариусов, занимающихся частной практикой (ст.24 Озо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рганы нотариальной палат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120" y="1752480"/>
            <a:ext cx="358128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447920" y="3352680"/>
            <a:ext cx="693396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ший орган – собрание член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тариальной па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81480" y="4952880"/>
            <a:ext cx="3581640" cy="121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ид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4-10-31T15:55:4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