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C4F-6C35-4F85-A109-7C087B8D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3CC-697E-44DF-978B-D568A34E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A84-3653-4C4F-847E-C52F4A6E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4D0-0F14-4011-BF12-1DC8748E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32C-FE9E-4274-85ED-35EF339D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50F-2770-4F0C-8189-CABCE9C7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436A-2ED7-42B2-BBD3-7CC9A3D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847D-71A4-4404-B9C4-0542173E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698-BD04-494A-8ACD-9E49A5B8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285-0812-437F-8A39-67A617FE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AC8F-7646-4B2C-93A2-FBDB3B2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2FE-68CA-40BC-8E76-44E5E27F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609-C07A-4619-BD43-3739FBC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8BE-464C-4C8D-A649-03AD161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7E54-AF06-4990-8BE4-A6ADD61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5D0A-9ECA-4949-B7FD-04DE76CE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309-544E-4558-AA84-38E5C6AE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57CD-BC4B-449E-BBB0-C8B3D437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7A99-091B-4B51-9EC6-0AC4688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AE3C-F74B-4A92-93A6-6E7EAF8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BBDA-BF3B-4105-B1FD-6D8058B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ECC4-6CCC-44C1-9448-D2E8F8AA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FFC-FBFA-4237-8FA6-AF3B6BA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4829-5A74-4CED-87B4-1D3C8DD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DC7A-3783-4CE6-993A-30F3600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CCE0-5F5D-4BA9-9EC0-DC93AFC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28D1-6741-4061-BE84-DAF9583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D88E-4071-4DE6-90DA-5390C25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4B7E-895C-4714-9124-F7303C64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D078-C34C-4D89-BCFD-A3E61007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91F2-1314-4FC3-9435-98051217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2FDB-8D7C-4A50-B653-E192807A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0F47-A438-451F-A45A-6861103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864-E2C9-49B5-A1C1-140C6AA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7EA1-75B3-4184-8A33-FE59AE21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4FFA-81EA-4AD5-933A-92C3A885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901A-7B61-4EC9-8FC4-0228423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9851-B166-48A2-AA06-17041F9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F554-3E42-4FFC-9148-9D7402A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B7CB-E12D-4394-893B-26B140D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99D5B-3A7B-46D5-92A5-AA46A437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A89B-1F7B-4C0E-AEE6-A3842356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4CA0-2FF6-468C-8F77-6D837511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821-DF2E-40E9-9D5E-F36AE7E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B5A-98DC-4999-875F-A26C16C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927-385F-438F-9ED3-E34DB3DE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CBE-929F-4772-ADA6-F1B9112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BFA-A6C8-401C-B4E0-0176E1D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1241-EDFC-444F-BCF8-772CABCBD88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90D-2E55-4A42-83A0-0B57B679EF7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DFB-5534-47B6-A7BD-977A3E1CD89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4B0-0BEF-4004-8615-D0887C74DA0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1000080"/>
            <a:ext cx="7772400" cy="2017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21444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Тема: 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Удостоверение договоров, связанных с отчуждением недвижимост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авила (продолжение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4200" y="114264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5) При удостоверении сделок, указанных в ст. 35 Семейного кодекса РФ, нотариусом проверяется наличи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отариально удостоверенного согласия другого супруга на совершение сделк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Если в нотариально удостоверенном согласии супруга указаны какие-либо условия сделки, нотариус при удостоверении сделки проверяет, соблюдены ли эти услов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Если лицо н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стоит в зарегистрированно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браке, нотариусу представля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исьменное заявл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об этом данного ли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6) При удостоверении сделок с участие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есовершеннолетних, недееспособных или не полностью дееспособны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нотариус проверяет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личие согласия их законных представителе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и (или)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ргана опеки и попеч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на совершение сделки, когда это требуется в соответствии с законо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и расторжении договора об отчуждении имущества нотариус, в случае хранения у него правоустанавливающего документа на имущество, возвращает его собственнику этого имущества. При этом у нотариуса остается копия правоустанавливающего докумен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3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8884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Сведения об участниках сделки (правообладателях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"/>
          <p:cNvPicPr/>
          <p:nvPr/>
        </p:nvPicPr>
        <p:blipFill>
          <a:blip r:embed="rId1"/>
          <a:stretch/>
        </p:blipFill>
        <p:spPr>
          <a:xfrm>
            <a:off x="433440" y="1109520"/>
            <a:ext cx="8265960" cy="56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ahoma"/>
                <a:ea typeface="Tahoma"/>
              </a:rPr>
              <a:t>Описание объекта недвижимости.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444600" y="901800"/>
            <a:ext cx="83390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ведения о праве собственности и об иных вещных правах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390600" y="1932120"/>
            <a:ext cx="8729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Сведения об ограничениях (обременениях) права собственности и других прав на недвижимое имущество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444600" y="1347840"/>
            <a:ext cx="8254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Основные правила оформления договоров об отчуждении недвижимого имуществ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444600" y="1925640"/>
            <a:ext cx="82548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Отчуждение недвижимости, находящейся в общей совместной собственности супруг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7" name="Содержимое 2"/>
          <p:cNvGrpSpPr/>
          <p:nvPr/>
        </p:nvGrpSpPr>
        <p:grpSpPr>
          <a:xfrm>
            <a:off x="324000" y="1822320"/>
            <a:ext cx="8508960" cy="4608720"/>
            <a:chOff x="324000" y="1822320"/>
            <a:chExt cx="8508960" cy="4608720"/>
          </a:xfrm>
        </p:grpSpPr>
        <p:pic>
          <p:nvPicPr>
            <p:cNvPr id="22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24000" y="1822320"/>
              <a:ext cx="850896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7200" y="193500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Договор купли-продажи недвижимого имущества, приобретенного супругами в период брака и являющегося общей совместной собственностью супругов, удостоверяется при наличии </a:t>
              </a:r>
              <a:r>
                <a:rPr b="1" lang="ru-RU" sz="2600" spc="-1" strike="noStrike">
                  <a:solidFill>
                    <a:srgbClr val="000000"/>
                  </a:solidFill>
                  <a:latin typeface="Constantia"/>
                </a:rPr>
                <a:t>согласия супруга продавца недвижимого имущества на продажу (мену) этого имущества.</a:t>
              </a: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В соответствии с п. 3 ст. 35 СК такое согласие должно быть </a:t>
              </a:r>
              <a:r>
                <a:rPr b="1" lang="ru-RU" sz="2600" spc="-1" strike="noStrike">
                  <a:solidFill>
                    <a:srgbClr val="000000"/>
                  </a:solidFill>
                  <a:latin typeface="Constantia"/>
                </a:rPr>
                <a:t>нотариально удостоверено</a:t>
              </a: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. В текст договора возможно включить </a:t>
              </a:r>
              <a:r>
                <a:rPr b="1" lang="ru-RU" sz="2600" spc="-1" strike="noStrike">
                  <a:solidFill>
                    <a:srgbClr val="000000"/>
                  </a:solidFill>
                  <a:latin typeface="Constantia"/>
                </a:rPr>
                <a:t>указание о том, когда и кем нотариально удостоверено такое согласие.</a:t>
              </a: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Не требуется согласие супруга на продажу недвижимого имущества, когда: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444600" y="1835280"/>
            <a:ext cx="82548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Отчуждение недвижимости, находящейся в общей совместной собственности супруг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в качестве правоподтверждающего документа на квартиру представлено свидетельство о праве собственности, выдаваемое органами по жилищной политике (или иными уполномоченными органами) на основани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говора о долевом участии в строительстве жиль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договора инвестирования), факт вложения в указанную квартиру средств только одного из супругов также должен быть подтвержден дополнительно (например, самим договором о долевом участии в строительстве либо справкой организации-застройщика о том, что вся сумма вложений была внесена до брак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План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214280"/>
            <a:ext cx="85438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1. Понятие недвижим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. Сведения, отражаемые в Едином государственном реестре прав на недвижимое имуществ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. Основные правила оформления договоров об отчуждении недвижимого имуществ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предмета в договоре об отчуждении недвижимос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Требования к правоустанавливающим документ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чуждение недвижимости, находящейся в общей совместной собственности супруг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чуждение доли в праве общей собственности на недвижимое имуществ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Защита прав несовершеннолетних собственников и третьих лиц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Цена договора об отчуждении недвижимого имущест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чие условия договоров об отчуждении недвижимого имущест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есто совершения сделки по отчуждению недвижимого имуще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Исполнение договоров об отчуждении недвижимого имуще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Отчуждение недвижимости, находящейся в общей совместной собственности супруго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лучае, когда супруг лица, отчуждающего недвижимое имущество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клоняется от оформле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соответствующего согласия на отчуждение имущества, собственником может быть передано в порядке ст. 86 ОЗоН заявление супругу с предложением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ть согласие на отчуждение имущества либо явиться к нотариусу для определения своей доли в праве собственности на отчуждаемое имуще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Отчуждение доли в праве общей собственности на недвижимое имущество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происходит по ст. 250 ГК: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ывается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имущественное прав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окупки продаваемой доли по цене, за которую она продается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давец доли обязан известить в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исьменно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форме остальных участников долевой собственности 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мерен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родать свою долю постороннему лицу с указанием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ен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других условий, на которых продает ее. Если остальные участники долевой собственности откажутся от покупки или не приобретут продаваемую долю в праве собственности на недвижимое имущество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течение месяц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продавец вправе продать свою долю любому лиц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казательством извещения участников общей долевой собственности о предстоящей продаже доли в общей собственности на недвижимое имущество может служить свидетельство о передаче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явл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родавца в порядке ст. 86 Основ законодательства РФ о нотариате или заявления остальных участников общей собственности об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тказ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т осуществления преимущественного права покупки продаваемой до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заявлении обязательно должны быть назван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"/>
          <p:cNvPicPr/>
          <p:nvPr/>
        </p:nvPicPr>
        <p:blipFill>
          <a:blip r:embed="rId1"/>
          <a:stretch/>
        </p:blipFill>
        <p:spPr>
          <a:xfrm>
            <a:off x="365040" y="1901880"/>
            <a:ext cx="8388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Защита прав несовершеннолетних собственников и третьих лиц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гласно п. 2 ст. 37 ГК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пекун не вправе без предварительного разрешения органов опеки и попечительства совершать, а попечитель - давать согласие на совершение сделок по отчуждению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опекун, попечитель, их супруги и близкие родственники </a:t>
            </a: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не вправе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0188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аконные представители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прав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884240"/>
            <a:ext cx="82296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Цена договора об отчуждении недвижимого имущества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ядок упла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купной цены определя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глашением сторо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По желанию участников сделк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умм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ричитающаяся к уплате, может быть передана продавцу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 подписания договора либо после его подпис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 такж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 передачи недвижимого имущества либо после его передач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В соответствии с действующим законодательством при условии, что право собственности продавца было зарегистрировано ранее, 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регистрации подлежат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 заключении договора купли-продажи жилого дома вместе с земельным участко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говор купли-продаж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жилой дом к покупател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земельный участок к покупател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В соответствии с действующим законодательством при условии, что право собственности продавца было зарегистрировано ранее,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регистрации подлежат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 заключении договора дарения любой недвижимости вместе с земельным участко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оговор дар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недвижимость к одаряемом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земельный участок к одаряемом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В соответствии с действующим законодательством при условии, что право собственности продавца было зарегистрировано ранее,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регистрации подлежат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 заключении договора ренты, при котором под уплату ренты передано любое недвижимое имущество вместе с земельным участко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оговор рен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недвижимость к плательщику рен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земельный участок к плательщику рен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усвоить  порядок удостоверения договоров, связанных с отчуждением недвижим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В соответствии с действующим законодательством при условии, что право собственности продавца было зарегистрировано ранее,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регистрации подлежат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 заключении договора купли-продажи нежилого объекта недвижимости вместе с земельным участко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жилой дом к покупател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ереход права собственности на земельный участок к покупател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отмечаем, что закон предусматривае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язательно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тариальное удостоверение только строго определенных договоров об отчуждении недвижимого иму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ако, граждане имеют право просить нотариуса о нотариальном удостоверении любого догово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новная учебная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обед М.А.  Нотариат в Российской Федерации. - М. : ОМЕГА-ЭЛ.- 20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ституция РФ 199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мейный кодекс РФ от 29.12.1995 №223-ФЗ (с последующими изменениями и дополнениями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6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42560" y="14288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З от 21 июля 1997 г. N 122-ФЗ "О государственной регистрации прав на недвижимое имущество и сделок с ним" (с изменениями и дополнениям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илищный кодекс Российской Федерации от 29 декабря 2004 г. N 188-ФЗ (ЖК РФ) (с изменениями и дополнениям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З от 22 июля 2008 г. N 159-ФЗ "Об особенностях отчуждения недвижимого имущества, находящегося в государственной собственности субъектов Российской Федерации или в муниципальной собственности и арендуемого субъектами малого и среднего предпринимательства, и о внесении изменений в отдельные законодательные акты Российской Федерации" (с изменениями и дополнениям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З от 16 июля 1998 г. N 102-ФЗ "Об ипотеке (залоге недвижимости)" (с изменениями и дополнениям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рбитражный процессуальный кодекс Российской Федерации от 24 июля 2002 г. N 95-ФЗ (АПК РФ) (с изменениями и дополнениями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поня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движим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чуждение недвижим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говор купли-продаж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говор дар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говор рен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говор ме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  <a:ea typeface="Tahoma"/>
              </a:rPr>
              <a:t>Понятие недвижим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оответствии со ст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30 ГК к недвижимым веща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недвижимому имуществу, недвижимости) относятся земельные участки, участки недр, обособленные водные объекты и все, что прочно связано с землей, т.е. объекты, перемещение которых без несоразмерного ущерба их назначению невозможно, в том числе леса, многолетние насаждения, здания, сооружения. К недвижимым вещам относятся также подлежащие государственной регистрации воздушные и морские суда, суда внутреннего плавания, космические объекты. Законом к недвижимым вещам может быть отнесено и иное имущест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видно, в ст. 130 ГК содержится лишь примерный, не исчерпывающий перечень недвижим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авил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292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договоры отчуждения недвижимого имущества подлежат нотариальному удостоверению по месту нахождения этого имуществ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отариус обязан проверить, принадлежит ли имущество на праве собственности или ином вещном праве лицу, отчуждающему это имуществ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если имущество отчуждается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юридически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лицом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нотариусом проверяются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авомочия органов или лиц по распоряжению имущество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в соответствии с законами и иными НПА и учредительными документами юридических лиц. В случае принадлежности имуществ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е на праве собственности, а на ином вещном прав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нотариус проверяет наличи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огласия собственник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на совершение сделки, когда обязательность такого согласия предусмотрена закон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отариус проверяет, имеются ли сособственники имущества, если да, то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 наличии сособственников в случаях, когда для совершения сделки требуется их согласие, нотариус проверяет наличие такого соглас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при возмездном отчуждении доли в праве общей собственности постороннему лицу нотариус проверяет соблюдение условий, установленных п. 2 ст. 250 Гражданского кодекса Российской Федерации, т.е.  известил ли продавец участников общей долевой собственности об этом с указанием цены и других условий отчуждения; Доли в праве собственности на имущество указываются в виде правильной простой дроби цифрами и пропись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6:02:32Z</dcterms:modified>
  <cp:revision>24</cp:revision>
  <dc:subject/>
  <dc:title>Лекция 6</dc:title>
</cp:coreProperties>
</file>