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7B7-CD61-4A3C-9A0B-AD652199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13A5-DC50-450F-AFDF-54A9EADA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9010-1C6F-4FBB-8EE3-B286EFCF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FF9E-5404-4EF8-8A56-FD96544C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0C51-C0A0-4BE7-AE63-E3F8F83C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ADF9-7A96-42FA-B7D4-6D4FA5D1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F02B-8C4E-4487-8E58-06AE24DC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F3CD-3354-431F-87D9-81C307AD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B92E-1487-4C37-B483-75197948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284A-1498-4C12-B15F-4BB6C889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37AC-FF08-4800-B6F2-8C39FE5A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F71A-3BB3-4FF2-9673-1DB33B8E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297B-22AC-444E-8287-0CF7F2F4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481E-CEB3-4412-B9B0-D9D627BE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C68D-309E-443F-B3E7-03EBC0D3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C3C1-E968-4CC1-A0D8-C20250D7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DB5E-04E9-4CF6-ACE1-A5596E92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A5F6-DB6F-4BA9-B974-D60B4D94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2F9-A269-4AD9-96FB-B7EAE72E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932B-D4D4-46C1-96F0-9B9C69C6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E73C-135C-40B7-8897-E5143F05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0AB6-E95A-4F06-B89F-CE320209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0D97-5B15-4E33-990E-F5BDBE1E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507-CF50-4A9E-B636-1A6E586F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FF04-EB0A-4BD6-8BE6-161E0F3A21A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61A8-8C1E-4EC4-98D3-01325AA88DA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Лекция 3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2708280"/>
            <a:ext cx="8534520" cy="29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ема: Общие правила нотариального производств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rganization Chart 2"/>
          <p:cNvGrpSpPr/>
          <p:nvPr/>
        </p:nvGrpSpPr>
        <p:grpSpPr>
          <a:xfrm>
            <a:off x="179280" y="115920"/>
            <a:ext cx="8784000" cy="6481080"/>
            <a:chOff x="179280" y="115920"/>
            <a:chExt cx="8784000" cy="6481080"/>
          </a:xfrm>
        </p:grpSpPr>
        <p:cxnSp>
          <p:nvCxnSpPr>
            <p:cNvPr id="117" name="_s1028"/>
            <p:cNvCxnSpPr>
              <a:stCxn id="118" idx="0"/>
              <a:endCxn id="119" idx="2"/>
            </p:cNvCxnSpPr>
            <p:nvPr/>
          </p:nvCxnSpPr>
          <p:spPr>
            <a:xfrm rot="10800000">
              <a:off x="2813760" y="1293480"/>
              <a:ext cx="879120" cy="471420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20" name="_s1029"/>
            <p:cNvCxnSpPr>
              <a:stCxn id="121" idx="0"/>
              <a:endCxn id="119" idx="1"/>
            </p:cNvCxnSpPr>
            <p:nvPr/>
          </p:nvCxnSpPr>
          <p:spPr>
            <a:xfrm rot="10800000">
              <a:off x="2813760" y="1293480"/>
              <a:ext cx="879120" cy="294660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22" name="_s1030"/>
            <p:cNvCxnSpPr>
              <a:stCxn id="123" idx="0"/>
              <a:endCxn id="119" idx="0"/>
            </p:cNvCxnSpPr>
            <p:nvPr/>
          </p:nvCxnSpPr>
          <p:spPr>
            <a:xfrm rot="10800000">
              <a:off x="2813760" y="1293480"/>
              <a:ext cx="879120" cy="117900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19" name="_s1031"/>
            <p:cNvSpPr/>
            <p:nvPr/>
          </p:nvSpPr>
          <p:spPr>
            <a:xfrm>
              <a:off x="179280" y="115920"/>
              <a:ext cx="5270400" cy="1178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72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Garamond"/>
                </a:rPr>
                <a:t>Виды нотариальной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Garamond"/>
                </a:rPr>
                <a:t>подведомственности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_s1032"/>
            <p:cNvSpPr/>
            <p:nvPr/>
          </p:nvSpPr>
          <p:spPr>
            <a:xfrm>
              <a:off x="3692880" y="1883520"/>
              <a:ext cx="5270400" cy="1178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e7960"/>
                </a:gs>
                <a:gs pos="50000">
                  <a:srgbClr val="720000"/>
                </a:gs>
                <a:gs pos="100000">
                  <a:srgbClr val="be7960"/>
                </a:gs>
              </a:gsLst>
              <a:lin ang="8100000"/>
            </a:gradFill>
            <a:ln w="324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ff"/>
                  </a:solidFill>
                  <a:latin typeface="Tahoma"/>
                </a:rPr>
                <a:t>альтернативная</a:t>
              </a:r>
              <a:endParaRPr b="0" lang="en-US" sz="3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_s1033"/>
            <p:cNvSpPr/>
            <p:nvPr/>
          </p:nvSpPr>
          <p:spPr>
            <a:xfrm>
              <a:off x="3692880" y="3651120"/>
              <a:ext cx="5270400" cy="1178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e7960"/>
                </a:gs>
                <a:gs pos="50000">
                  <a:srgbClr val="720000"/>
                </a:gs>
                <a:gs pos="100000">
                  <a:srgbClr val="be7960"/>
                </a:gs>
              </a:gsLst>
              <a:lin ang="8100000"/>
            </a:gradFill>
            <a:ln w="324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ahoma"/>
                </a:rPr>
                <a:t>множественная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_s1034"/>
            <p:cNvSpPr/>
            <p:nvPr/>
          </p:nvSpPr>
          <p:spPr>
            <a:xfrm>
              <a:off x="3692880" y="5418720"/>
              <a:ext cx="5270400" cy="1178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e7960"/>
                </a:gs>
                <a:gs pos="50000">
                  <a:srgbClr val="720000"/>
                </a:gs>
                <a:gs pos="100000">
                  <a:srgbClr val="be7960"/>
                </a:gs>
              </a:gsLst>
              <a:lin ang="8100000"/>
            </a:gradFill>
            <a:ln w="324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ahoma"/>
                </a:rPr>
                <a:t>исключительная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Нотариусы совершают следующие нотариальные действия (ст.35, 36 ОзоН)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) удостоверяют сдел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2) выдают свидетельства о праве собственности на долю в общем имуществе супруг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3) налагают и снимают запрещения отчуждения имущест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4) свидетельствуют верность копий документов и выписок из них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5) свидетельствуют подлинность подписи на документах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6) свидетельствуют верность перевода документов с одного языка на друго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7) удостоверяют факт нахождения гражданина в живых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8) удостоверяют факт нахождения гражданина в определенном мест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9) удостоверяют тождественность гражданина с лицом, изображенным на фотографи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0) удостоверяют время предъявления документ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1) передают заявления физических и юридических лиц другим физическим и юридическим лица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2) принимают в депозит денежные суммы и ценные бумаг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3) совершают исполнительные надпис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4) совершают протесты векселе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5) предъявляют чеки к платежу и удостоверяют неоплату чеков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6) принимают на хранение документы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7) совершают морские протесты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8) обеспечивают доказательст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должностные лица органов исполнительной власти: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достоверяют завеща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достоверяют доверен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нимают меры к охране наследственного иму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видетельствуют верность копий документов и выписок из ни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видетельствуют подлинность подписи на документ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отариальное действие: поняти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22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содержание процедуры нотариальной деятельности, выражающейся в последовательном совершении целой системы юридических фактов (динамическое понятие нотариального действия),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22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результат нотариального производства как юридический факт (статическое понятие нотариального действия)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сновные юридические признаки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нотариального действия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1371600"/>
          <a:ext cx="9144000" cy="56196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вершаются установленным в законе кругом лиц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вершаются от имени Р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плата государственной пошлины либо нотариального тариф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5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уществляются в рамках специальной процедуры - нотариального производства, отличающегося жесткой связанностью порядка его осуществления.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тариальное действие должно быть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усмотрено федеральным законом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тариальное действие должно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ответствовать требованиям законодательств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виды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нотариальных производств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 удостоверению сдело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 удостоверению юридических факт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 свидетельствованию бесспорных фактических обстоятельст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 совершению охранительных действ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 подтверждению имущественных пра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 способствованию исполнению обязательст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 обеспечению доказательст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 приданию исполнительной силы документам и обязательств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Стадии нотариального производств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00200"/>
          <a:ext cx="8229600" cy="47959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возбуждение нотариального производства, на которой решается вопрос о возможности совершения нотариального действия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установление юридического состава, необходимого для совершения нотариального действ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00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совершение нотариального действия нотариусом либо отказ в совершении нотариального действия в зависимости от установленного фактического состав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При возбуждении нотариус устанавливает следующие фактические обстоятельства: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280" y="1600200"/>
          <a:ext cx="8991720" cy="5100480"/>
        </p:xfrm>
        <a:graphic>
          <a:graphicData uri="http://schemas.openxmlformats.org/drawingml/2006/table">
            <a:tbl>
              <a:tblPr/>
              <a:tblGrid>
                <a:gridCol w="4496040"/>
                <a:gridCol w="4495680"/>
              </a:tblGrid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Предметную компетенцию нотариус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Территориальную компетенцию нотариус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Место совершения нотариальных действи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Установление личности обратившегос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 Проверка дееспособности граждан и правоспособности юридических лиц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 Язык нотариального делопроизводств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тадия 2: установление юридического состава, необходимого для совершения нотариального действия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тариус определяет, исходя из характера нотариального действия, круг необходимых фактов и затребует для их установления соответствующие документы либо приглашает других ли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Требования к документам, представляемым для совершения нотариальных действий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тариусы не принимают документы, имеющие подчистки либо приписки, зачеркнутые слова и иные неоговоренные исправления, а также документы, исполненные карандашо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ряют соблюдения прав других лиц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ряют принадлежность права собственности и принадлежность иных имущественных пра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ла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нятие и виды подведомствен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нятие нотариального действия и условия его действи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нятие, виды нотариального производ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тадии нотариального производства и их характеристик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ретья стадия - совершение нотариального действи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данной стадии нотариус вправ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ить проект сделок, заявлений и других документов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готовлять копии документов и выписки из них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вать разъяснения по вопросам совершения нотариальных действ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требовать от физических и юридических лиц сведения и документы, необходимые для совершения нотариальных действий. Заявители могут представить нотариусу и проект соответствующего нотариального акта. Однако и в этом случае нотариус обязан проверить его содержание на предмет соответствия требованиям законодатель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данной стадии нотариального производства при совершении нотариального действия нотариус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яза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беспечить соблюдение норм как материального, так и процедурного нотариального пра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требования нотариального производства на его третьей стади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1600200"/>
          <a:ext cx="9144000" cy="57070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362320"/>
                <a:gridCol w="2209680"/>
              </a:tblGrid>
              <a:tr h="30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ъяснение прав и обязанностей участников нотариального производств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ебования к тексту нотариальных документов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рядок подписи нотариально удостоверяемой сделки, заявления и иных документов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вершение удостоверительных надписей и выдача свидетельств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хранение тайны нотариальных действи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плата государственной пошлины, нотариального тариф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ксация нотариального производств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истрация нотариальных действий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00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ким образом, рассматривая понятие нотариальной подведомственности, отмечается наличие альтернативной, множественной и исключительной видов подведомствен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тариальное производство состоит из трех стадий, в результате осуществления которых нотариус совершает юридически значимые действ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Основная учебная литерату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мола А.И. Нотариат : учебник для среднего профессионального образования. - 5-е изд., исправ. и доп. - М. : Академия.- 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ласов Ю.Н. Нотариат в Российской Федерации : учебник / Ю.Н. Власов, В.В. Калинин. - 2-е изд. - М. : ОМЕГА-Л.- 20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обед М.А.  Нотариат в Российской Федерации. - М. : ОМЕГА-ЭЛ.-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ормативно-правовые акт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ституция РФ 199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ы законодательства РФ о нотариате от 11.02.1993 (с последующими изменениями и дополнениям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ский процессуальный кодекс РФ от 14 ноября 2002 г. №138 - ФЗ. (с последующими изменениями и дополнениям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ский кодекс РФ. ч. 1. от 30.11.2004 №51-ФЗ (с последующими изменениями и дополнениям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ский кодекс РФ. ч. 2 от 26.01.1996 №146-ФЗ (с последующими изменениями и дополнениям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ский кодекс РФ. ч. 3 от 26.11.2001 №146-ФЗ (с последующими изменениями и дополнениям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ский кодекс РФ. ч. 4 от 18.12.2006.№230-Ф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мейный кодекс РФ от 29.12.1995 №223-ФЗ (с последующими изменениями и дополнениям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он Смоленской области «О нотариате» от 12.01.1999г (в ред. Закона Смоленской области от 22.06.2007 №57-з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Цель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ить  понятие и виды нотариальной подведомственности; правомочия лиц, совершающих нотариальные действ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еть основные юридические признаки нотариального действия и условия его действительност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следовать стадии нотариального производства и действия нотариуса, производимые на каждой стад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00"/>
                </a:solidFill>
                <a:uFillTx/>
                <a:latin typeface="Palatino Linotype"/>
              </a:rPr>
              <a:t>Основные понятия лекции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ведомственность, множественная  подведомствен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ведомственность дел нотариуса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23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Palatino Linotype"/>
              </a:rPr>
              <a:t>Основные понятия лекции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4100760" cy="4967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ведомственность, множественная  подведомствен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ведомственность дел нотариуса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88000" y="1483920"/>
            <a:ext cx="4171680" cy="5040360"/>
          </a:xfrm>
          <a:prstGeom prst="rect">
            <a:avLst/>
          </a:prstGeom>
          <a:solidFill>
            <a:srgbClr val="ff9900"/>
          </a:solidFill>
          <a:ln w="9360">
            <a:solidFill>
              <a:srgbClr val="33cc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Формы защиты прав и охраняемых законом интересо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468360" y="1557360"/>
            <a:ext cx="4319640" cy="1440000"/>
          </a:xfrm>
          <a:custGeom>
            <a:avLst/>
            <a:gdLst>
              <a:gd name="textAreaLeft" fmla="*/ 0 w 4319640"/>
              <a:gd name="textAreaRight" fmla="*/ 4320000 w 4319640"/>
              <a:gd name="textAreaTop" fmla="*/ 186480 h 1440000"/>
              <a:gd name="textAreaBottom" fmla="*/ 12535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дминистратив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4932360" y="3357720"/>
            <a:ext cx="3527280" cy="1584000"/>
          </a:xfrm>
          <a:custGeom>
            <a:avLst/>
            <a:gdLst>
              <a:gd name="textAreaLeft" fmla="*/ 0 w 3527280"/>
              <a:gd name="textAreaRight" fmla="*/ 3527640 w 3527280"/>
              <a:gd name="textAreaTop" fmla="*/ 205200 h 1584000"/>
              <a:gd name="textAreaBottom" fmla="*/ 1378800 h 1584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539640" y="4581360"/>
            <a:ext cx="4680000" cy="1440000"/>
          </a:xfrm>
          <a:custGeom>
            <a:avLst/>
            <a:gdLst>
              <a:gd name="textAreaLeft" fmla="*/ 0 w 4680000"/>
              <a:gd name="textAreaRight" fmla="*/ 4680360 w 4680000"/>
              <a:gd name="textAreaTop" fmla="*/ 186480 h 1440000"/>
              <a:gd name="textAreaBottom" fmla="*/ 12535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щественны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ация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1042920" y="3213000"/>
            <a:ext cx="3600360" cy="1511280"/>
          </a:xfrm>
          <a:custGeom>
            <a:avLst/>
            <a:gdLst>
              <a:gd name="textAreaLeft" fmla="*/ 0 w 3600360"/>
              <a:gd name="textAreaRight" fmla="*/ 3600720 w 3600360"/>
              <a:gd name="textAreaTop" fmla="*/ 195840 h 1511280"/>
              <a:gd name="textAreaBottom" fmla="*/ 13154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удеб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5580000" y="1557360"/>
            <a:ext cx="863640" cy="2016000"/>
          </a:xfrm>
          <a:custGeom>
            <a:avLst/>
            <a:gdLst>
              <a:gd name="textAreaLeft" fmla="*/ 115560 w 863640"/>
              <a:gd name="textAreaRight" fmla="*/ 748080 w 863640"/>
              <a:gd name="textAreaTop" fmla="*/ 352800 h 2016000"/>
              <a:gd name="textAreaBottom" fmla="*/ 146160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5105520" y="376560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cc33"/>
                </a:solidFill>
                <a:latin typeface="Tahoma"/>
              </a:rPr>
              <a:t>нотариаль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дведомственность: понят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то свойство дела, состоящее из  его признаков, в зависимости от которых разрешение дела распределяется между различными юрисдикционными орган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то правовой институт, т.е. совокупность юридических норм, расположенных в различных НПА, определяющих ту или иную форму защиты пра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именительно к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отариату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под подведомственностью понимаются  дела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оторы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отариат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правомоч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вершать юридически значимые действ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0" y="16765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0" y="28954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0" y="411480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24-10-31T15:57:0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