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1012-1B59-4626-8397-11BEB69F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484E-42C8-4EA7-9274-DADE1B19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8CDD-47B8-4E72-977C-1829D6A5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A3D6-6129-4FBC-BF21-B35B000A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060B-6FA5-4A10-9662-7CDD4AAE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017A-DCC8-4AB6-9B41-B77B4BD8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C657-2939-4E12-8328-9645F200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BA3E-7716-4261-9975-08C71C94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DE0E-1293-4746-B028-757A6C93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1C7A-C7D5-4E10-B9EF-9C5F38FE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D032-E801-45D8-8249-DDEF2D38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3CDE-5CF5-42F5-8B25-39EE034D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B4C8-05BF-4DC8-968B-43F3E5B8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599C-4398-45F0-90EB-C63E7EF2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558B-B6D6-4CA0-981F-D1D1599E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9B6D-C87A-47D3-B433-8FBAD76F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E5CD-ABF9-4A18-86D2-5FA08601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F108-3CF9-4E7D-89B5-22937CF7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D320-8D1A-48A4-AC65-C49119E9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F2AB-B94A-4937-B256-EC2034F9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3DBF-723B-4B4B-A028-2AFE1460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F26D-CB99-48F7-B5EF-D829A0E7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3EBA-3429-4F04-9F7B-AB9C891E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6244-2B16-41C5-BBA2-A86C342B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98E2-407C-49CC-B29E-C4234890EA4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11F6-3CB9-4965-AC45-B3D1767802C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Лекция 4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708280"/>
            <a:ext cx="6400800" cy="29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а: Особенности нотариального удостоверения отдельных видов сдел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оверенност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Содержимое 3" descr=""/>
          <p:cNvPicPr/>
          <p:nvPr/>
        </p:nvPicPr>
        <p:blipFill>
          <a:blip r:embed="rId1"/>
          <a:stretch/>
        </p:blipFill>
        <p:spPr>
          <a:xfrm>
            <a:off x="414360" y="1603440"/>
            <a:ext cx="839484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Схема 2" descr=""/>
          <p:cNvPicPr/>
          <p:nvPr/>
        </p:nvPicPr>
        <p:blipFill>
          <a:blip r:embed="rId1"/>
          <a:stretch/>
        </p:blipFill>
        <p:spPr>
          <a:xfrm>
            <a:off x="646200" y="-12600"/>
            <a:ext cx="854712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оверенност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" name="Содержимое 3" descr=""/>
          <p:cNvPicPr/>
          <p:nvPr/>
        </p:nvPicPr>
        <p:blipFill>
          <a:blip r:embed="rId1"/>
          <a:stretch/>
        </p:blipFill>
        <p:spPr>
          <a:xfrm>
            <a:off x="426960" y="1584360"/>
            <a:ext cx="826632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507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9900"/>
                </a:solidFill>
                <a:uFillTx/>
                <a:latin typeface="Tahoma"/>
              </a:rPr>
              <a:t>договор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13" name="Схема 3" descr=""/>
          <p:cNvPicPr/>
          <p:nvPr/>
        </p:nvPicPr>
        <p:blipFill>
          <a:blip r:embed="rId1"/>
          <a:stretch/>
        </p:blipFill>
        <p:spPr>
          <a:xfrm>
            <a:off x="281160" y="1384200"/>
            <a:ext cx="8710560" cy="539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507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9900"/>
                </a:solidFill>
                <a:uFillTx/>
                <a:latin typeface="Tahoma"/>
              </a:rPr>
              <a:t>соглаш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16" name="Схема 3" descr=""/>
          <p:cNvPicPr/>
          <p:nvPr/>
        </p:nvPicPr>
        <p:blipFill>
          <a:blip r:embed="rId1"/>
          <a:stretch/>
        </p:blipFill>
        <p:spPr>
          <a:xfrm>
            <a:off x="360360" y="1371600"/>
            <a:ext cx="8497800" cy="541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507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ahoma"/>
              </a:rPr>
              <a:t>Иные действ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119" name="Схема 3" descr=""/>
          <p:cNvPicPr/>
          <p:nvPr/>
        </p:nvPicPr>
        <p:blipFill>
          <a:blip r:embed="rId1"/>
          <a:stretch/>
        </p:blipFill>
        <p:spPr>
          <a:xfrm>
            <a:off x="311040" y="1395360"/>
            <a:ext cx="8759880" cy="532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Схема 2" descr=""/>
          <p:cNvPicPr/>
          <p:nvPr/>
        </p:nvPicPr>
        <p:blipFill>
          <a:blip r:embed="rId1"/>
          <a:stretch/>
        </p:blipFill>
        <p:spPr>
          <a:xfrm>
            <a:off x="237960" y="262080"/>
            <a:ext cx="87346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Алгоритм действий нотариуса при удостоверени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Схема 5" descr=""/>
          <p:cNvPicPr/>
          <p:nvPr/>
        </p:nvPicPr>
        <p:blipFill>
          <a:blip r:embed="rId1"/>
          <a:stretch/>
        </p:blipFill>
        <p:spPr>
          <a:xfrm>
            <a:off x="487440" y="1395360"/>
            <a:ext cx="829620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8244000" cy="7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Удостоверительная надпись нотариус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 имени Российской Федер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род Смоленс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семнадцатого мая две тысячи седьмого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стоящий договор удостоверен мной, Куликовой Мариной Ивановной, нотариусом Смоленского городского нотариального округа, действующей на основании лицензии №001234, выданной 12 сентября 1998 года Управлением юстиции Смоленской обл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говор подписан Ивановым Иваном Ивановичем,  Петровым Петром Петровичем в моем присутствии. Личность подписавших договор установлена, их дееспособность, а также принадлежность отчуждаемой квартиры Иванову Ивану Ивановичу проверен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стоящий договор и переход права собственности подлежат регистрации в Регистрационной палате Смоленской обл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регистрировано в реестре за №8125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зыскано по тарифу согласно статье 22 Основ законодательства РФ о нотариате 500 рублей00 коп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тариус                                                                       Куликова М.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3300"/>
                </a:solidFill>
                <a:uFillTx/>
                <a:latin typeface="Palatino Linotype"/>
              </a:rPr>
              <a:t>Выводы: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ким образом, законодательством предусмотрены действия, обязательные для нотариального удостоверения. Несоблюдение нотариальной формы данных действий влечет их недействительнос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ла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делки, подлежащие обязательному нотариальному удостоверен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держание правоспособности и дееспособности граждан и правосубъектности юридических лиц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щие правила удостоверения сдело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итератур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Основная учебная литерату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мола А.И. Нотариат : учебник для среднего профессионального образования. - 5-е изд., исправ. и доп. - М. : Академия.- 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ласов Ю.Н. Нотариат в Российской Федерации : учебник / Ю.Н. Власов, В.В. Калинин. - 2-е изд. - М. : ОМЕГА-Л.- 20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обед М.А.  Нотариат в Российской Федерации. - М. : ОМЕГА-ЭЛ.-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ормативно-правовые акт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ституция РФ 199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ы законодательства РФ о нотариате от 11.02.1993 (с последующими изменениями и дополнениям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ский процессуальный кодекс РФ от 14 ноября 2002 г. №138 - ФЗ. (с последующими изменениями и дополнениям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ский кодекс РФ. ч. 1. от 30.11.2004 №51-ФЗ (с последующими изменениями и дополнениям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ский кодекс РФ. ч. 2 от 26.01.1996 №146-ФЗ (с последующими изменениями и дополнениям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ский кодекс РФ. ч. 3 от 26.11.2001 №146-ФЗ (с последующими изменениями и дополнениям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ский кодекс РФ. ч. 4 от 18.12.2006.№230-Ф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мейный кодекс РФ от 29.12.1995 №223-ФЗ (с последующими изменениями и дополнениям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кон Смоленской области «О нотариате» от 12.01.1999г (в ред. Закона Смоленской области от 22.06.2007 №57-з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ормативно-правовые акты (продолжение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З от 21 июля 1997 г. N 122-ФЗ "О государственной регистрации прав на недвижимое имущество и сделок с ним" (с изменениями и дополнениям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каз Минюста РФ от 10.04.2002 №99 «Об утверждении Форм реестров  для регистрации нотариальных действий, нотариальных свидетельств и удостоверительных надписей на сделках и свидетельствуемых документах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Цели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ить общие правила нотариального удостоверения сдело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формировать алгоритм действий участников нотариального производства при удостоверении сдел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3300"/>
                </a:solidFill>
                <a:uFillTx/>
                <a:latin typeface="Palatino Linotype"/>
              </a:rPr>
              <a:t>Основные понятия лекции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Правоспособность и дееспособность физического лиц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Правосубъектность юридического лиц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Сдел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Догово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Удостоверение договор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Сделка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омерное действие граждан или юридических лиц, направленное на возникновение, изменение, прекращение  гражданских право и обязаннос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Обязательному нотариальному удостоверению подлежат:</a:t>
            </a:r>
            <a:br>
              <a:rPr sz="40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Содержимое 3" descr=""/>
          <p:cNvPicPr/>
          <p:nvPr/>
        </p:nvPicPr>
        <p:blipFill>
          <a:blip r:embed="rId1"/>
          <a:stretch/>
        </p:blipFill>
        <p:spPr>
          <a:xfrm>
            <a:off x="347760" y="1603440"/>
            <a:ext cx="835164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3:25:28Z</dcterms:created>
  <dc:creator>Дом</dc:creator>
  <dc:description/>
  <dc:language>en-US</dc:language>
  <cp:lastModifiedBy>Admin</cp:lastModifiedBy>
  <dcterms:modified xsi:type="dcterms:W3CDTF">2024-10-31T15:58:25Z</dcterms:modified>
  <cp:revision>32</cp:revision>
  <dc:subject/>
  <dc:title>Лекция 1.</dc:title>
</cp:coreProperties>
</file>