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2B2-DAF0-4F1E-B16C-F48BAAF7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09D-0514-416C-8E85-9FCC0D48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5D0-157B-44C9-9BA8-E8826ADD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DA4-3AF3-4E61-9551-1B9F3907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5A4A-BB7E-4690-9F29-59C7DD3B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9D7E-8FBE-43C8-8EBC-D5DD399E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5A45-ED7B-4A5E-BFA5-0B59BACA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2DD3-2A71-4061-83DA-45500357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A0FC-3646-4443-B562-7BE07A0B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6F31-637A-458A-B601-74FD9E5B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FB0E-F55C-40F3-A73C-E27CBDEC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D0C-3655-4B2D-9D61-D24DD18E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A315-609A-41FD-AC85-417DC07F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3457-680D-4279-8610-5AE55C39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D390-C7BF-43C7-A3FC-56CD1AB1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0C29-2FC5-4627-ACE1-63FB6624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4E1F-5B22-482D-BD9B-E1A038D9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31367-AE5E-4110-99AD-702DF999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FD7E4-8619-41E6-94FE-0B1E9F8B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2126A-3C59-4F31-86F4-7136E491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24BA9-1252-436F-9763-4B8305D4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A77BE-7090-4BE5-8C23-17048147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40D-06D9-4A39-8DCD-0C1630FB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209F7-E684-45F9-820B-F12FFC1A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C5A30-ED28-4E4F-99D3-9D1F5230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D1631-5CEA-4883-A3BC-ED900A56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EAF15-8F85-4E7C-8998-6F364829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EB0E3-7F21-41ED-BD25-B1EAACE2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ACD08-1743-4AA6-AC80-BE67A732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40CC9-A5A6-4AEB-B20E-430D1749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755A0-AF51-4C6E-A8DA-CEFE7D3A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BF5C0-D50F-463F-ACE4-0D81CEC5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BCB3D-8036-4F96-8216-A30E1855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5E4-21F3-4BC5-B1B6-17FF16A4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94D78-D3DF-4C13-B6FE-67B95BE1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A91AA-6E1C-4BC0-96AF-1185AEAC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3C81E-3FEE-4651-B502-930D2609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6DEF0-C572-4427-81ED-695EFFB9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6ECDE-D5B4-4B4D-925A-34A8B492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F29B8-3E59-4DDB-AC7B-C3277287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E2FF9-66E5-4846-AB21-D7AFE505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D13F6-019C-40DE-9C31-E5266990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1AE54-35D2-45EE-AA0D-AF15B879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F55-956C-4094-8543-D49315FC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C573-1482-477E-A955-CF928F8A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D39-217D-41E2-90F0-35BC98EA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6CD-0F26-40CB-A885-B7BA41E3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BF68-3CC7-41FE-8513-C0173324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CF7D-B05A-4CF3-9BD0-9C9C4AE14AB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B284-07C2-431F-810A-73D52A2CAE2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CAC3-4742-45C5-AB6E-67C3F3F38C0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FE03-3C1E-4C7E-9B2A-ED0EB8FC5F8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9040" y="1000080"/>
            <a:ext cx="7772400" cy="1090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2642760"/>
            <a:ext cx="7715160" cy="29955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  <a:ea typeface="Tahoma"/>
              </a:rPr>
              <a:t>Тема: 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Удостоверение документов и фактов. Принятие в депозит ценных бумаг. Совершение протеста векселей. Удостоверение нотариусом исполнительных надписей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Порядок удостоверения факта нахождения гражданина в живых (ст. 82 ОЗоН):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Содержимое 3" descr=""/>
          <p:cNvPicPr/>
          <p:nvPr/>
        </p:nvPicPr>
        <p:blipFill>
          <a:blip r:embed="rId1"/>
          <a:stretch/>
        </p:blipFill>
        <p:spPr>
          <a:xfrm>
            <a:off x="390600" y="1401840"/>
            <a:ext cx="8362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Удостоверение факта нахождения гражданина в определенном месте (ст.83 ОЗоН)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Содержимое 3" descr=""/>
          <p:cNvPicPr/>
          <p:nvPr/>
        </p:nvPicPr>
        <p:blipFill>
          <a:blip r:embed="rId1"/>
          <a:stretch/>
        </p:blipFill>
        <p:spPr>
          <a:xfrm>
            <a:off x="444600" y="1262160"/>
            <a:ext cx="86500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Удостоверение тождественности личности гражданина с лицом, изображенным на фотографии (ст. 84 ОЗоН)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Содержимое 3" descr=""/>
          <p:cNvPicPr/>
          <p:nvPr/>
        </p:nvPicPr>
        <p:blipFill>
          <a:blip r:embed="rId1"/>
          <a:stretch/>
        </p:blipFill>
        <p:spPr>
          <a:xfrm>
            <a:off x="182520" y="1573200"/>
            <a:ext cx="89679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Удостоверение времени предъявления документов (ст. 85 ОЗоН)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Содержимое 3" descr=""/>
          <p:cNvPicPr/>
          <p:nvPr/>
        </p:nvPicPr>
        <p:blipFill>
          <a:blip r:embed="rId1"/>
          <a:stretch/>
        </p:blipFill>
        <p:spPr>
          <a:xfrm>
            <a:off x="-49320" y="1212840"/>
            <a:ext cx="92664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Передача заявлений физических и юридических лиц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5714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явления представляются нотариусу не менее чем в двух экземплярах, один из которых остается на хранении у нотариуса, а второй и остальные (в зависимости от количества физических и юридических лиц, заинтересованных в передаваемой информации) пересылаются по почте с обратным уведомлением. Заявления могут передаваться также лично нотариусом, а также с использованием телефакса, компьютерных сетей и иных технических средств. Лица, обратившиеся к нотариусу за совершением данного нотариального действия, помимо государственной пошлины (тарифа) несут расходы, связанные с использованием технических средств. При передаче заявления по почте они оплачивают почтовые расход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Передача заявлений физических и юридических лиц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13840" y="1499760"/>
            <a:ext cx="89298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явление направляется адресату с сопроводительным письмом нотариуса. Один экземпляр сопроводительного письма остается в делах нотариуса вместе с экземпляром передаваемого заявления. На хранящемся в нотариальной конторе экземпляре сопроводительного письма указывается реестровый номер, за которым зарегистрирована передача заявления, и сумма взысканной за совершение нотариального действия государственной пошлины (тарифа). В реестре регистрации нотариальных действий в графе "содержание нотариального действия" данное действие отражается как "передача заявления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Передача заявлений физических и юридических лиц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1214280"/>
            <a:ext cx="91440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 просьбе лица, подавшего заявление, ему выдается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свидетельство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о передаче заявления. Один экземпляр свидетельства остается в делах нотариуса. Поскольку выдача свидетельства о передаче заявления не является обязательной и производится только по желанию лица, его передающего (в отличие, например, от выдачи свидетельства о принятии документов на хранение), она должна оформляться в виде отдельного нотариального действия с особой регистрацией в реестре регистрации нотариальных действий и отдельным взысканием государственной пошлины (тарифа). Свидетельство о передаче заявления может выдаваться как одновременно с передачей заявления, так и в любое время после его передачи. В первом случае в свидетельстве о передаче заявления отражаются только сведения о времени получения нотариусом заявления и направления его лицу, указанному в заявлении, а также содержание заявления. Во втором случае в свидетельстве, кроме того, дополнительно может быть указано еще и время получения ответа на заявление, содержание этого ответа либо тот факт, что к назначенному в заявлении сроку ответа не последовало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Принятие в депозит денежных сумм и ценных бумаг (ст. 87 ОЗоН)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14720"/>
            <a:ext cx="822960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пози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в нотариальной практике -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это передача на хранение денег или ценных бумаг, подлежащих по наступлении определенных условий возврату внесшему их лицу или передаче по его указанию другому лиц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Порядок принятия в депозит ценных бумаг</a:t>
            </a:r>
            <a:br>
              <a:rPr sz="2900"/>
            </a:b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Основание</a:t>
            </a: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Содержимое 3" descr=""/>
          <p:cNvPicPr/>
          <p:nvPr/>
        </p:nvPicPr>
        <p:blipFill>
          <a:blip r:embed="rId1"/>
          <a:stretch/>
        </p:blipFill>
        <p:spPr>
          <a:xfrm>
            <a:off x="-96840" y="1573200"/>
            <a:ext cx="93330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Внесение денежной суммы или ценных бумаг в депозит нотариуса считается исполнением обязательства.</a:t>
            </a:r>
            <a:br>
              <a:rPr sz="29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Содержимое 3" descr=""/>
          <p:cNvPicPr/>
          <p:nvPr/>
        </p:nvPicPr>
        <p:blipFill>
          <a:blip r:embed="rId1"/>
          <a:stretch/>
        </p:blipFill>
        <p:spPr>
          <a:xfrm>
            <a:off x="85680" y="920880"/>
            <a:ext cx="913140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План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214280"/>
            <a:ext cx="854388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рядок  удостоверения нотариусом документов и фак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дача заявлений физических и юридических лиц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нятие в депозит денежных сумм и ценных бума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вершение исполнительных надпис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ле записи поступивших в депозит денежных сумм или ценных бумаг в книге учета депозитных операций эти суммы записываются в книге лицевых счетов депонент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ицевой счет депонента открывается на имя гражданина или организации, в пользу которых внесены в депозит денежные суммы или ценные бумаг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енные бумаги сдаются в банк в опечатанных пакетах. На пакете обозначается номинальная стоимость ценных бумаг. Для хранения ценных бумаг возможна аренда банковской ячей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ыдача из депозита денежных сумм и ценных бумаг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изводится по заявлению, подаваемому депоненто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принятии заявления о выдаче из депозита денежных сумм или ценных бумаг нотариусом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устанавливается личность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братившегося кредитора,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оверяется его дееспособность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а в случае подачи соответствующего заявления представителем кредитора -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снования представительств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Если кредитором является юридическое лицо, нотариусом производится проверка правоспособности юридического лица и полномочий его представител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 заявлении делается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тметка об установлении личности депонент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 указывается наименование документа, его номер, дата выдачи и наименование учреждения, выдавшего документ, удостоверяющий личность депонента, а также указывается документ, подтверждающий право на получение депозитных сумм (свидетельство о праве на наследство, доверенность и др.). При этом депонент расписывается на заявлении в получении наличных дене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рганизациям денежные суммы перечисляются на их счета, как правило, платежными поручения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Ценные бумаги из банка получают нотариусы. Депонент в получении ценных бумаг расписывается на заявлен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врат денежных сумм и ценных бумаг лицу, внесшему их в депозит, допускается лишь с согласия на то лица, в пользу которого поступили денежные суммы и ценные бумаги, или по решению суд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ст. 88 Основ законодательства РФ о нотариате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Исполнительная надпись совершается: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Содержимое 3" descr=""/>
          <p:cNvPicPr/>
          <p:nvPr/>
        </p:nvPicPr>
        <p:blipFill>
          <a:blip r:embed="rId1"/>
          <a:stretch/>
        </p:blipFill>
        <p:spPr>
          <a:xfrm>
            <a:off x="133200" y="1182600"/>
            <a:ext cx="896148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ние исполнительной надписи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42" name="Содержимое 2"/>
          <p:cNvGrpSpPr/>
          <p:nvPr/>
        </p:nvGrpSpPr>
        <p:grpSpPr>
          <a:xfrm>
            <a:off x="360360" y="1176480"/>
            <a:ext cx="8478720" cy="5254560"/>
            <a:chOff x="360360" y="1176480"/>
            <a:chExt cx="8478720" cy="5254560"/>
          </a:xfrm>
        </p:grpSpPr>
        <p:pic>
          <p:nvPicPr>
            <p:cNvPr id="243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60360" y="1176480"/>
              <a:ext cx="847872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57200" y="1285920"/>
              <a:ext cx="8229600" cy="50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80000"/>
                </a:lnSpc>
                <a:spcBef>
                  <a:spcPts val="4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Исполнительная надпись должна содержать: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>
                <a:lnSpc>
                  <a:spcPct val="80000"/>
                </a:lnSpc>
                <a:spcBef>
                  <a:spcPts val="4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1) фамилию и инициалы, должность нотариуса, совершающего исполнительную надпись;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>
                <a:lnSpc>
                  <a:spcPct val="80000"/>
                </a:lnSpc>
                <a:spcBef>
                  <a:spcPts val="4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2) наименование и адрес взыскателя;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>
                <a:lnSpc>
                  <a:spcPct val="80000"/>
                </a:lnSpc>
                <a:spcBef>
                  <a:spcPts val="4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3) наименование и адрес должника;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>
                <a:lnSpc>
                  <a:spcPct val="80000"/>
                </a:lnSpc>
                <a:spcBef>
                  <a:spcPts val="4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4) обозначение срока, за который производится взыскание;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>
                <a:lnSpc>
                  <a:spcPct val="80000"/>
                </a:lnSpc>
                <a:spcBef>
                  <a:spcPts val="4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5) обозначение суммы, подлежащей взысканию, или предметов, подлежащих истребованию, в том числе пени, процентов, если таковые причитаются;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>
                <a:lnSpc>
                  <a:spcPct val="80000"/>
                </a:lnSpc>
                <a:spcBef>
                  <a:spcPts val="4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6) обозначение суммы государственной пошлины или тарифа, уплаченных взыскателем или подлежащих взысканию с должника;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>
                <a:lnSpc>
                  <a:spcPct val="80000"/>
                </a:lnSpc>
                <a:spcBef>
                  <a:spcPts val="4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7) дату (год, месяц, число) совершения исполнительной надписи;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>
                <a:lnSpc>
                  <a:spcPct val="80000"/>
                </a:lnSpc>
                <a:spcBef>
                  <a:spcPts val="4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8) номер, под которым исполнительная надпись зарегистрирована в реестре;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>
                <a:lnSpc>
                  <a:spcPct val="80000"/>
                </a:lnSpc>
                <a:spcBef>
                  <a:spcPts val="4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9) подпись нотариуса, совершившего исполнительную надпись;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>
                <a:lnSpc>
                  <a:spcPct val="80000"/>
                </a:lnSpc>
                <a:spcBef>
                  <a:spcPts val="4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10) печать нотариуса.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>
                <a:lnSpc>
                  <a:spcPct val="80000"/>
                </a:lnSpc>
                <a:spcBef>
                  <a:spcPts val="4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ывод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ким образом, мы убедились в ходе изложения лекции, что действия нотариуса  по у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остоверению документов и фактов, принятию в депозит ценных бумаг, совершению протеста векселей, удостоверению исполнительных надписей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меют строго определенный порядок, установленный законодательст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ь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усвоить  порядок удостоверения нотариусом документов и фактов, принятия в депозит ценных бумаг, совершение протестов векселей, совершение исполнительных надписей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итература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Основная учебная литерату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омола А.И. Нотариат : учебник для среднего профессионального образования. - 5-е изд., исправ. и доп. - М. : Академия.- 200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ласов Ю.Н. Нотариат в Российской Федерации : учебник / Ю.Н. Власов, В.В. Калинин. - 2-е изд. - М. : ОМЕГА-Л.- 200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обед М.А.  Нотариат в Российской Федерации. - М. : ОМЕГА-ЭЛ.- 200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ормативно-правовые ак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6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онституция РФ 199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6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новы законодательства РФ о нотариате от 11.02.1993 (с последующими изменениями и дополнениями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6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ажданский процессуальный кодекс РФ от 14 ноября 2002 г. №138 - ФЗ. (с последующими изменениями и дополнениями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6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ажданский кодекс РФ. ч. 1. от 30.11.2004 №51-ФЗ (с последующими изменениями и дополнениями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6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ажданский кодекс РФ. ч. 2 от 26.01.1996 №146-ФЗ (с последующими изменениями и дополнениями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6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емейный кодекс РФ от 29.12.1995 №223-ФЗ (с последующими изменениями и дополнениями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6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н Смоленской области «О нотариате» от 12.01.1999г (в ред. Закона Смоленской области от 22.06.2007 №57-з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Нормативно-правовые акт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5840" y="1499760"/>
            <a:ext cx="84009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Федеральный закон от 11 марта 1997 г. "О переводном и простом векселе"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исьмо МНС РФ от 20 сентября 2004 г. N 09-0-10/3733@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«О свидетельствовании нотариусом подлинности подписи заявителя на заявлении»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остановление Совета Министров РСФСР от 11 марта 1976 г. N 171 "Об утверждении перечня документов, по которым взыскание задолженности производится в бесспорном порядке на основании исполнительных надписей органов, совершающих нотариальные действия" (в редакции от 30 декабря 1993 г., с изменениями от 19 июня 1996 г., 5 ноября 1999 г., 30 декабря 2000 г.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оложение о лицензировании деятельности ломбардов, утвержденным постановлением Правительства РФ от 27 декабря 2000 г. N 1014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исьмо Госналогслужбы РФ от 31 марта 1998 г. N ВК-6-16/210 "О формах документов строгой отчетности для учета наличных денежных средств без применения контрольно-кассовых машин"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Основные понят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Виды фактов, удостоверяемые нотариусами (ст. 82-85 ОЗоН): 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Содержимое 3" descr=""/>
          <p:cNvPicPr/>
          <p:nvPr/>
        </p:nvPicPr>
        <p:blipFill>
          <a:blip r:embed="rId1"/>
          <a:stretch/>
        </p:blipFill>
        <p:spPr>
          <a:xfrm>
            <a:off x="457200" y="191448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Удостоверение факта нахождения гражданина в живых (ст. 82 ОЗоН):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16040"/>
            <a:ext cx="82296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4-10-31T16:04:10Z</dcterms:modified>
  <cp:revision>12</cp:revision>
  <dc:subject/>
  <dc:title>Лекция 8</dc:title>
</cp:coreProperties>
</file>