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57E-DD7A-4C84-9F8B-FBDA7D44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46A-29A2-4AEF-B509-3774B13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D61-5F42-4618-8692-E8B1BDDD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C55-4C06-4DA2-BF22-CF6951B1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77ED-A32F-4CB8-85F6-BDBDC92B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F1A4-61EA-4940-9282-A772ACAE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17B9-75A7-443D-9125-E482BF4D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F57F-6317-4EEF-BC92-E5342C85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8743-06C1-407C-B2CF-73227FA7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7B2A-D99A-4F32-8453-43E3FE8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790-3E2B-49E6-9673-0D2DCD76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DED-F801-4573-8EFE-B683F97B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CFB9-2674-4223-86F3-1CE1929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F1BA-BE10-4B5E-BC73-F5817C5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4365-9F3E-4D20-B3C5-2E25B714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2995-1DD5-4EDC-8C55-576965AB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10AB-EBC2-437F-9ECB-806676BD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A8B7-73CF-494C-85DE-228CD884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FA223-ADEA-418E-B241-38FD08C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D52B-2D1E-4829-B6AC-0FB5C98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55F9-DCAD-46F4-8516-A2DC6465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052C2-9CF0-418A-A7A9-B67B4177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4C2-4A77-4AB1-94A5-8927FA40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834C9-A9AB-407D-A04A-9AAD6665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4B6F-ED27-4F0D-948F-5E75C731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D351-E815-4860-A085-8B24D3D2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2F6B-F732-4405-915A-733CBEDE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2F35-DCE7-4786-BDD8-A0CAEC58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25B4-B4C6-4BD2-A3A3-2A145ADE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B63F-22C6-438B-A37A-C622A266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7CFA-A09C-4563-B2D3-C499EECB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1AAC-EE70-4458-B8B5-A51E2C1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2F5D-B6B0-4CF2-A99A-A9CB086A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F17-0F3C-4530-993A-4B0FC284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9543-A246-4487-9A66-25F20DFE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487B-C02F-4AD7-A944-39179F9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087B3-256E-4A7B-AA65-DDC25ACC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AE93B-45C8-4BC1-9131-8ED53B5A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CB890-9320-434E-B359-28B38D7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BC21-E05E-4DB6-90DF-EDDE2FA0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66114-5521-47B9-8BE7-46940CEE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8200-BA71-41D0-A75F-9BC82C76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3B02-BCF1-492A-B817-73E1657F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B92-21CF-43E0-8348-B19CC0F5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580-9041-4D5D-B298-5493A731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72C-19AA-4587-8754-146E80BC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144-7AF0-49BC-9DC1-DCFDEDA2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C08-DC0E-455B-9C32-388C46C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12E0-1930-461F-B4EC-8B43AD25FF0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D501-4AF0-4E27-894C-30B879EEA9D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31D9-5599-45A7-AFF9-F85EB435712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6236-819C-40AC-91CE-72AE84921DB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1000080"/>
            <a:ext cx="7772400" cy="2017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214440"/>
            <a:ext cx="6400800" cy="2423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  <a:ea typeface="Tahoma"/>
              </a:rPr>
              <a:t>Тема: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  <a:ea typeface="Tahoma"/>
              </a:rPr>
              <a:t>Выдача нотариусом Свидетельства о праве на наследство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Документы, подтверждающие родство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равки о родственных отношениях, выданные органами ЗАГС на основании соответствующих копий актовых запис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налогичные справки, выданные организациями (по месту работы либо по месту жительства наследодателя или наследников), в которых подобные сведения имеются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писи в паспортах о супруге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мовые книги, и т.п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использовании документов, лишь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свенно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одтверждающих родство, следует, очевидно, применять принцип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мплекс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ценки: факт родственных отношений должен быть подтвержден не одним документом, а их совокупност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недостаточности доказательств, подтверждающих родственные отношения и их степень, нужно истребовать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ешение с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 установлении необходимых юридических фактов (факта родственных или брачных отношений, факта регистрации тех или иных событий, факта иждивенчества и т.п.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Наследование по представлению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о представления (ст. 1146 ГК РФ) можно определить как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аво названных в законе лиц занять место своего родителя, умершего до открытия наследства либо одновременно с наследодателем, в наследовании по закону наравне с наследниками той очереди, которая призывается к наследован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гласно п. 1 ст. 1146 ГК РФ доля наследника по закону может переходить по праву представления к его соответствующим потомкам в двух случаях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) в случае смерти родителя ребенка, который мог бы являться наследником по закону, до открытия насле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) в случае смерти этого родителя одновременно с наследодателе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сновным правилом наследования в порядке представления является то, что наследники по праву представления наследуют поровну в той доле, которая причиталась бы при наследовании по закону их умершему родител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3" descr=""/>
          <p:cNvPicPr/>
          <p:nvPr/>
        </p:nvPicPr>
        <p:blipFill>
          <a:blip r:embed="rId1"/>
          <a:stretch/>
        </p:blipFill>
        <p:spPr>
          <a:xfrm>
            <a:off x="244440" y="487440"/>
            <a:ext cx="8734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2" descr=""/>
          <p:cNvPicPr/>
          <p:nvPr/>
        </p:nvPicPr>
        <p:blipFill>
          <a:blip r:embed="rId1"/>
          <a:stretch/>
        </p:blipFill>
        <p:spPr>
          <a:xfrm>
            <a:off x="244440" y="706320"/>
            <a:ext cx="88027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8520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ahoma"/>
                <a:ea typeface="Tahoma"/>
              </a:rPr>
              <a:t>к нетрудоспособным следует относить:</a:t>
            </a:r>
            <a:br>
              <a:rPr sz="45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енщин, достигших 55 лет, и мужчин - 60 л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инвалидов I, II и III групп независимо от того, назначена ли названным лицам пенсия по старости или инвалид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лиц, не достигших 16 лет, а учащихся - 18 л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оящими на иждивении наследодателя следует считать нетрудоспособных лиц, находившихся на полном содержании наследодателя или получавших от наследодателя такую помощь, которая была для них основным и постоянным источником средств к существ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доказательство факта нахождения на иждивении могут быть представлены следующие документы: 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25640"/>
            <a:ext cx="82296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ст. 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  <a:ea typeface="Tahoma"/>
              </a:rPr>
              <a:t>1149 ГК РФ предусмотрен круг лиц, которые не могут быть полностью лишены завещателем права на наследство и призываются к наследованию независимо от содержания завещания (обязательные наследники)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25640"/>
            <a:ext cx="82296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К нетрудоспособным иждивенцам, имеющим право на обязательную долю в наследстве относятся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384120" y="1932120"/>
            <a:ext cx="84250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Порядок исчисления обязательной доли в случаях, когда у наследодателя, кроме завещанного, имеется еще и незавещанное имущество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о на обязательную долю в наследстве удовлетворяется из оставшейся незавещанной части наследственного имущества, даже если это приведет к уменьшению прав других наследников по закону на эту часть имущества, а при недостаточности незавещанной части имущества для осуществления права на обязательную долю - из той части имущества, которая завещана. В обязательную долю засчитывается все, что наследник, имеющий право на такую долю, получает из наследства по какому-либо основанию, в том числе стоимость установленного в пользу такого наследника завещательного отка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лан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следование по закону и завещанию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нятие наслед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ыдача нотариусом Свидетельства о праве на наследств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  <a:ea typeface="Tahoma"/>
              </a:rPr>
              <a:t>Принятие наследств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tretch/>
        </p:blipFill>
        <p:spPr>
          <a:xfrm>
            <a:off x="347760" y="1427040"/>
            <a:ext cx="836280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  <a:ea typeface="Tahoma"/>
              </a:rPr>
              <a:t>Сроки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атьей 1154 ГК РФ установлено, что наследство может быть принято в теч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шести месяце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о дня открытия наслед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лучае открытия наследства в день предполагаемой гибели гражданина (п. 1 ст. 1114 ГК РФ) наследство может быть принято в теч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шести месяцев со дня вступления в законную силу решения суда об объявлении его умерш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право наследования возникает для других лиц вследствие отказа наследника от наследства или отстранения наследника по основаниям, установленным ст. 1117 ГК РФ, такие лица могут принять наследство в теч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шести месяцев со дня возникновения у них права наследо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3" descr=""/>
          <p:cNvPicPr/>
          <p:nvPr/>
        </p:nvPicPr>
        <p:blipFill>
          <a:blip r:embed="rId1"/>
          <a:stretch/>
        </p:blipFill>
        <p:spPr>
          <a:xfrm>
            <a:off x="212760" y="353880"/>
            <a:ext cx="883908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  <a:ea typeface="Tahoma"/>
              </a:rPr>
              <a:t>Выдача нотариусом Свидетельства о праве на наследство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4" descr=""/>
          <p:cNvPicPr/>
          <p:nvPr/>
        </p:nvPicPr>
        <p:blipFill>
          <a:blip r:embed="rId1"/>
          <a:stretch/>
        </p:blipFill>
        <p:spPr>
          <a:xfrm>
            <a:off x="457200" y="1925640"/>
            <a:ext cx="82296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ействия нотариуса при оформлении наследственных пра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Содержимое 3" descr=""/>
          <p:cNvPicPr/>
          <p:nvPr/>
        </p:nvPicPr>
        <p:blipFill>
          <a:blip r:embed="rId1"/>
          <a:stretch/>
        </p:blipFill>
        <p:spPr>
          <a:xfrm>
            <a:off x="281160" y="1420920"/>
            <a:ext cx="86868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вод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Таким образом, Свидетельство о праве на наследство выдается нотариусом по месту открытия наследства наследникам по закону или по завещанию при предоставлении ими всех необходимых докумен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уяснить  порядок выдачи нотариусом Свидетельства о праве на наследств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новная учебная литера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мола А.И. Нотариат : учебник для среднего профессионального образования. - 5-е изд., исправ. и доп. - М. : Академия.-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ласов Ю.Н. Нотариат в Российской Федерации : учебник / Ю.Н. Власов, В.В. Калинин. - 2-е изд. - М. : ОМЕГА-Л.- 200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обед М.А.  Нотариат в Российской Федерации. - М. : ОМЕГА-ЭЛ.- 200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ормативно-правовые ак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Конституция РФ 199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ы законодательства РФ о нотариате от 11.02.1993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процессуальный кодекс РФ от 14 ноября 2002 г. №138 - ФЗ.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кодекс РФ. ч. 1. от 30.11.2004 №51-ФЗ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кодекс РФ. ч. 2 от 26.01.1996 №146-ФЗ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кодекс РФ. ч. 3 от 26.11.2001 №146-ФЗ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кодекс РФ. ч. 4 от 18.12.2006.№230-Ф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мейный кодекс РФ от 29.12.1995 №223-ФЗ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кон Смоленской области «О нотариате» от 12.01.1999г (в ред. Закона Смоленской области от 22.06.2007 №57-з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поня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следование по закон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следование по завещани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вещательный отка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вещательное распоряж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вещательное возлож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идетельство о праве на наследств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  <a:ea typeface="Tahoma"/>
              </a:rPr>
              <a:t>Наследниками по закону могут быть: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Содержимое 3" descr=""/>
          <p:cNvPicPr/>
          <p:nvPr/>
        </p:nvPicPr>
        <p:blipFill>
          <a:blip r:embed="rId1"/>
          <a:stretch/>
        </p:blipFill>
        <p:spPr>
          <a:xfrm>
            <a:off x="444600" y="1932120"/>
            <a:ext cx="83707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следование по закону происходит, когда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25640"/>
            <a:ext cx="82296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ГК РФ устанавливает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ледующие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череди наследников по закон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42560" y="1571760"/>
            <a:ext cx="90010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следниками по закону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ерв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очереди являются дети, супруг и родители наследодателя. Внуки наследодателя и их потомки наследуют по праву представления (ст. 1142 ГК РФ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следникам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тор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очереди по закону являются полнородные и неполнородные братья и сестры наследодателя, его дедушка и бабушка как со стороны отца, так и со стороны матери. Дети полнородных и неполнородных братьев и сестер наследодателя (племянники и племянницы наследодателя) наследуют по праву представления (ст. 1143 ГК РФ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следникам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третье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очереди по закону являются полнородные и неполнородные братья и сестры родителей наследодателя (дяди и тети наследодателя). Двоюродные братья и сестры наследодателя наследуют по праву представления (ст. 1144 ГК РФ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качестве наследников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четверт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очереди к наследованию призываются прадедушки и прабабушки наследодателя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качестве наследников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ят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очереди - дети родных племянников и племянниц наследодателя (двоюродные внуки и внучки) и родные братья и сестры его дедушек и бабушек (двоюродные дедушки и бабушки)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в качестве наследников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шест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очереди - дети двоюродных внуков и внучек наследодателя (двоюродные правнуки и правнучки), дети его двоюродных братьев и сестер (двоюродные племянники и племянницы) и дети его двоюродных дедушек и бабушек (двоюродные дяди и тети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Если нет наследников предшествующих очередей, к наследованию в качестве наследников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едьмо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очереди по закону призываются пасынки, падчерицы, отчим и мачеха наследодателя (ст. 1145 ГК РФ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4-10-31T16:01:12Z</dcterms:modified>
  <cp:revision>6</cp:revision>
  <dc:subject/>
  <dc:title>Лекция 6</dc:title>
</cp:coreProperties>
</file>