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BCC37-C772-45E0-B5D5-4D51CB226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DCBF3-9868-4AF7-B9FF-8E2C9FB19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0C7BD-A646-4D44-98F2-B5D542552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BA06F-D25B-4C8B-B6CE-8D5490FA7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C95F9-2D80-4EA3-8560-7CCDB08A9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F79AF-71E6-43BE-882B-3A5C1CEDE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E6808-133B-4624-93FB-2C169B1FC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4CBB0-2981-46CE-BE6E-D2F03FD17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190A9-4080-4F89-9DBB-9812737F0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B0F1C-2681-4DA6-93C3-4DD640C5C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43EFF-A2BC-4D7C-9BA6-F49E4DE54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A0552-7F6E-4882-B760-120CCFEC5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2A798-E6CB-4F31-8933-D9A7ED1AE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6ACEE-D647-476D-9321-FD06879EF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C1765-BB3F-475B-A3A8-05532B76B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54CB7-9978-41E1-BDD7-DE986E8C8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45CB0-BA4A-45A0-BB92-D17BC0E6D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079D8-C94D-4093-BCAF-4995239D2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51F6E-3CA0-49AA-A3BA-B792AE9DF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26B39-392A-43E4-8EB2-E59132DE2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21ED3-A7F6-4809-A00D-56F5687C6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A936D-6661-4048-89C7-F6A3AED0B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3996A-E72E-4ED6-A252-3BF6460A9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D0688-5814-43A2-9894-779BB1787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F916B-A318-41DE-8530-EC9B57316EDA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442B6-A379-4D07-B99F-3A1CB19A8D46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125000"/>
            <a:ext cx="7772400" cy="13669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cc"/>
                </a:solidFill>
                <a:latin typeface="Tahoma"/>
              </a:rPr>
              <a:t>Лекция 1.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2708280"/>
            <a:ext cx="6400800" cy="293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Тема: Нотариат: общая характеристик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850752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9900"/>
                </a:solidFill>
                <a:uFillTx/>
                <a:latin typeface="Tahoma"/>
              </a:rPr>
              <a:t>Нотариат   как наука и учебная дисциплина: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914400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Palatino Linotype"/>
              </a:rPr>
              <a:t>Нотариат </a:t>
            </a:r>
            <a:r>
              <a:rPr b="1" lang="ru-RU" sz="3200" spc="-1" strike="noStrike">
                <a:solidFill>
                  <a:srgbClr val="ffffff"/>
                </a:solidFill>
                <a:latin typeface="Palatino Linotype"/>
              </a:rPr>
              <a:t> </a:t>
            </a:r>
            <a:r>
              <a:rPr b="1" lang="ru-RU" sz="3200" spc="-1" strike="noStrike">
                <a:solidFill>
                  <a:srgbClr val="cc3300"/>
                </a:solidFill>
                <a:latin typeface="Palatino Linotype"/>
              </a:rPr>
              <a:t>как наука</a:t>
            </a:r>
            <a:r>
              <a:rPr b="0" lang="ru-RU" sz="3200" spc="-1" strike="noStrike">
                <a:solidFill>
                  <a:srgbClr val="ffffff"/>
                </a:solidFill>
                <a:latin typeface="Palatino Linotype"/>
              </a:rPr>
              <a:t> представляет собой систему взглядов и представлений, знаний и теоретических положений об отрасли нотариат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Palatino Linotype"/>
              </a:rPr>
              <a:t>нотариат </a:t>
            </a:r>
            <a:r>
              <a:rPr b="1" lang="ru-RU" sz="3200" spc="-1" strike="noStrike">
                <a:solidFill>
                  <a:srgbClr val="cc3300"/>
                </a:solidFill>
                <a:latin typeface="Palatino Linotype"/>
              </a:rPr>
              <a:t>как учебная дисциплина</a:t>
            </a:r>
            <a:r>
              <a:rPr b="0" lang="ru-RU" sz="3200" spc="-1" strike="noStrike">
                <a:solidFill>
                  <a:srgbClr val="ffffff"/>
                </a:solidFill>
                <a:latin typeface="Palatino Linotype"/>
              </a:rPr>
              <a:t> – это разновидность научных знаний, которая концентрирует основные проверенные положения науки нотариата в учебник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нотариат как отрасль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истема правовых норм, регулирующих общественные отношения, которые возникают между участниками нотариального производства при осуществлении юридически значимых действи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AutoShape 4"/>
          <p:cNvSpPr/>
          <p:nvPr/>
        </p:nvSpPr>
        <p:spPr>
          <a:xfrm>
            <a:off x="4140360" y="1197000"/>
            <a:ext cx="1223640" cy="2303280"/>
          </a:xfrm>
          <a:prstGeom prst="lightningBol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Предмет нотариат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413000"/>
            <a:ext cx="8435880" cy="468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еятельность нотариуса и других участников нотариального производства при осуществлении юридически значимых действи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AutoShape 6"/>
          <p:cNvSpPr/>
          <p:nvPr/>
        </p:nvSpPr>
        <p:spPr>
          <a:xfrm>
            <a:off x="971640" y="1413000"/>
            <a:ext cx="7056360" cy="647640"/>
          </a:xfrm>
          <a:custGeom>
            <a:avLst/>
            <a:gdLst>
              <a:gd name="textAreaLeft" fmla="*/ 1234800 w 7056360"/>
              <a:gd name="textAreaRight" fmla="*/ 5115960 w 7056360"/>
              <a:gd name="textAreaTop" fmla="*/ 86760 h 647640"/>
              <a:gd name="textAreaBottom" fmla="*/ 5608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Метод нотариат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AutoShape 4"/>
          <p:cNvSpPr/>
          <p:nvPr/>
        </p:nvSpPr>
        <p:spPr>
          <a:xfrm>
            <a:off x="539640" y="1484280"/>
            <a:ext cx="8136000" cy="4824360"/>
          </a:xfrm>
          <a:prstGeom prst="pie">
            <a:avLst/>
          </a:prstGeom>
          <a:solidFill>
            <a:srgbClr val="ff33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мперативно-диспозитивны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72872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00"/>
                </a:solidFill>
                <a:latin typeface="Tahoma"/>
              </a:rPr>
              <a:t>Система нотариата – это совокупность взаимосвязанных нотариальных институтов и норм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50560" y="2349000"/>
            <a:ext cx="424476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00"/>
                </a:solidFill>
                <a:latin typeface="Tahoma"/>
              </a:rPr>
              <a:t>Общая част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понятие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задачи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принципы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компетенция нотариата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законодательство, регулирующее его деятельность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48320" y="2276280"/>
            <a:ext cx="4171680" cy="381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00"/>
                </a:solidFill>
                <a:latin typeface="Tahoma"/>
              </a:rPr>
              <a:t>Особенная часть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правила совершения конкретных видов нотариальных действий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00"/>
                </a:solidFill>
                <a:latin typeface="Tahoma"/>
              </a:rPr>
              <a:t>Источники нотариата -  это внешние формы выражения нотариальных норм, которыми являются различные по юридической силе НПА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850752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2760" indent="-57276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Международные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договоры и соглашения по вопросам нотариата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72760" indent="-57276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онвенция о правовой помощи и правовых отношениях по гражданским, семейным и уголовным делам (Минск, 22 января 1993 г.), целый ряд других международных соглашений и договоров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72760" indent="-57276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Конституция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РФ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72760" indent="-57276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Федеральные конституционные законы и федеральное законодательство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72760" indent="-57276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сновы законодательства РФ о нотариате № 4462-1 от 11.02.1993 в ред. ФЗ от 26.06.2007 №118-ФЗ и други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72760" indent="-57276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Законодательство субъектов РФ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72760" indent="-57276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Закон Смоленской области «О нотариате» от 12.01.1999г ( в ред. Закона Смоленской области от 22.06.2007 №57-з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72760" indent="-57276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Указы Президента РФ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72760" indent="-57276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Постановления Правительства РФ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72760" indent="-57276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Инструкции, разъяснения, письма  МЮ РФ и Федеральной регистрационной службы РФ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72760" indent="-57276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Определения КС РФ, постановления и решения ВС РФ, ВАС РФ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727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8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9900"/>
                </a:solidFill>
                <a:latin typeface="Tahoma"/>
              </a:rPr>
              <a:t>Нотариальные </a:t>
            </a:r>
            <a:r>
              <a:rPr b="0" lang="en-US" sz="3200" spc="-1" strike="noStrike">
                <a:solidFill>
                  <a:srgbClr val="ff9900"/>
                </a:solidFill>
                <a:latin typeface="Tahoma"/>
              </a:rPr>
              <a:t> нормы </a:t>
            </a:r>
            <a:r>
              <a:rPr b="0" lang="ru-RU" sz="3200" spc="-1" strike="noStrike">
                <a:solidFill>
                  <a:srgbClr val="ff9900"/>
                </a:solidFill>
                <a:latin typeface="Tahoma"/>
              </a:rPr>
              <a:t>-</a:t>
            </a:r>
            <a:r>
              <a:rPr b="0" lang="en-US" sz="3200" spc="-1" strike="noStrike">
                <a:solidFill>
                  <a:srgbClr val="ff9900"/>
                </a:solidFill>
                <a:latin typeface="Tahoma"/>
              </a:rPr>
              <a:t> общеобязательные формально определенные правила </a:t>
            </a:r>
            <a:r>
              <a:rPr b="0" lang="ru-RU" sz="3200" spc="-1" strike="noStrike">
                <a:solidFill>
                  <a:srgbClr val="ff9900"/>
                </a:solidFill>
                <a:latin typeface="Tahoma"/>
              </a:rPr>
              <a:t>нотариальной деятельности,</a:t>
            </a:r>
            <a:r>
              <a:rPr b="0" lang="en-US" sz="3200" spc="-1" strike="noStrike">
                <a:solidFill>
                  <a:srgbClr val="ff9900"/>
                </a:solidFill>
                <a:latin typeface="Tahoma"/>
              </a:rPr>
              <a:t> выражаю</a:t>
            </a:r>
            <a:r>
              <a:rPr b="0" lang="ru-RU" sz="3200" spc="-1" strike="noStrike">
                <a:solidFill>
                  <a:srgbClr val="ff9900"/>
                </a:solidFill>
                <a:latin typeface="Tahoma"/>
              </a:rPr>
              <a:t>щие</a:t>
            </a:r>
            <a:r>
              <a:rPr b="0" lang="en-US" sz="3200" spc="-1" strike="noStrike">
                <a:solidFill>
                  <a:srgbClr val="ff9900"/>
                </a:solidFill>
                <a:latin typeface="Tahoma"/>
              </a:rPr>
              <a:t> государственную</a:t>
            </a:r>
            <a:r>
              <a:rPr b="0" lang="ru-RU" sz="3200" spc="-1" strike="noStrike">
                <a:solidFill>
                  <a:srgbClr val="ff9900"/>
                </a:solidFill>
                <a:latin typeface="Tahoma"/>
              </a:rPr>
              <a:t> волю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23640" y="2708280"/>
            <a:ext cx="8351640" cy="38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станавливаются нормативно-правовыми актами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егулируют правовые действия и отношения в сфере нотариального производства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меют цель способствовать  своевременной охране прав и законных интересов граждан и организаций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Organization Chart 2"/>
          <p:cNvGrpSpPr/>
          <p:nvPr/>
        </p:nvGrpSpPr>
        <p:grpSpPr>
          <a:xfrm>
            <a:off x="250920" y="260280"/>
            <a:ext cx="8712720" cy="6481080"/>
            <a:chOff x="250920" y="260280"/>
            <a:chExt cx="8712720" cy="6481080"/>
          </a:xfrm>
        </p:grpSpPr>
        <p:cxnSp>
          <p:nvCxnSpPr>
            <p:cNvPr id="133" name="_s2052"/>
            <p:cNvCxnSpPr>
              <a:stCxn id="134" idx="1"/>
              <a:endCxn id="135" idx="2"/>
            </p:cNvCxnSpPr>
            <p:nvPr/>
          </p:nvCxnSpPr>
          <p:spPr>
            <a:xfrm rot="10800000">
              <a:off x="2996280" y="1146240"/>
              <a:ext cx="568440" cy="5151600"/>
            </a:xfrm>
            <a:prstGeom prst="bentConnector2">
              <a:avLst/>
            </a:prstGeom>
            <a:ln w="28440">
              <a:solidFill>
                <a:srgbClr val="8c0000"/>
              </a:solidFill>
              <a:miter/>
            </a:ln>
          </p:spPr>
        </p:cxnSp>
        <p:cxnSp>
          <p:nvCxnSpPr>
            <p:cNvPr id="136" name="_s2053"/>
            <p:cNvCxnSpPr>
              <a:stCxn id="137" idx="1"/>
              <a:endCxn id="135" idx="2"/>
            </p:cNvCxnSpPr>
            <p:nvPr/>
          </p:nvCxnSpPr>
          <p:spPr>
            <a:xfrm rot="10800000">
              <a:off x="2996280" y="1146240"/>
              <a:ext cx="497160" cy="3790800"/>
            </a:xfrm>
            <a:prstGeom prst="bentConnector2">
              <a:avLst/>
            </a:prstGeom>
            <a:ln w="28440">
              <a:solidFill>
                <a:srgbClr val="8c0000"/>
              </a:solidFill>
              <a:miter/>
            </a:ln>
          </p:spPr>
        </p:cxnSp>
        <p:cxnSp>
          <p:nvCxnSpPr>
            <p:cNvPr id="138" name="_s2054"/>
            <p:cNvCxnSpPr>
              <a:stCxn id="139" idx="1"/>
              <a:endCxn id="135" idx="2"/>
            </p:cNvCxnSpPr>
            <p:nvPr/>
          </p:nvCxnSpPr>
          <p:spPr>
            <a:xfrm rot="10800000">
              <a:off x="2996280" y="1146240"/>
              <a:ext cx="497160" cy="2488680"/>
            </a:xfrm>
            <a:prstGeom prst="bentConnector2">
              <a:avLst/>
            </a:prstGeom>
            <a:ln w="28440">
              <a:solidFill>
                <a:srgbClr val="8c0000"/>
              </a:solidFill>
              <a:miter/>
            </a:ln>
          </p:spPr>
        </p:cxnSp>
        <p:cxnSp>
          <p:nvCxnSpPr>
            <p:cNvPr id="140" name="_s2055"/>
            <p:cNvCxnSpPr>
              <a:stCxn id="141" idx="1"/>
              <a:endCxn id="135" idx="2"/>
            </p:cNvCxnSpPr>
            <p:nvPr/>
          </p:nvCxnSpPr>
          <p:spPr>
            <a:xfrm rot="10800000">
              <a:off x="2996280" y="1146240"/>
              <a:ext cx="497160" cy="1139400"/>
            </a:xfrm>
            <a:prstGeom prst="bentConnector2">
              <a:avLst/>
            </a:prstGeom>
            <a:ln w="28440">
              <a:solidFill>
                <a:srgbClr val="8c0000"/>
              </a:solidFill>
              <a:miter/>
            </a:ln>
          </p:spPr>
        </p:cxnSp>
        <p:sp>
          <p:nvSpPr>
            <p:cNvPr id="135" name="_s2056"/>
            <p:cNvSpPr/>
            <p:nvPr/>
          </p:nvSpPr>
          <p:spPr>
            <a:xfrm>
              <a:off x="250920" y="260280"/>
              <a:ext cx="5492520" cy="88668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ffcc66"/>
              </a:solidFill>
              <a:miter/>
            </a:ln>
            <a:effectLst>
              <a:outerShdw dist="63504" dir="19383909" blurRad="0" rotWithShape="0">
                <a:srgbClr val="ffcc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3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cc"/>
                  </a:solidFill>
                  <a:latin typeface="Tahoma"/>
                </a:rPr>
                <a:t>Виды нотариальных норм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1" name="_s2057"/>
            <p:cNvSpPr/>
            <p:nvPr/>
          </p:nvSpPr>
          <p:spPr>
            <a:xfrm>
              <a:off x="3493800" y="1590480"/>
              <a:ext cx="5469840" cy="13914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ff9900"/>
              </a:solidFill>
              <a:miter/>
            </a:ln>
            <a:effectLst>
              <a:outerShdw dist="63504" dir="19383909" blurRad="0" rotWithShape="0">
                <a:srgbClr val="ff99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1" i="1" lang="en-US" sz="2400" spc="-1" strike="noStrike">
                  <a:solidFill>
                    <a:srgbClr val="ffffff"/>
                  </a:solidFill>
                  <a:latin typeface="Tahoma"/>
                </a:rPr>
                <a:t>императивные - диспозитивные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9" name="_s2058"/>
            <p:cNvSpPr/>
            <p:nvPr/>
          </p:nvSpPr>
          <p:spPr>
            <a:xfrm>
              <a:off x="3493800" y="3191400"/>
              <a:ext cx="5469840" cy="8866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ff9900"/>
              </a:solidFill>
              <a:miter/>
            </a:ln>
            <a:effectLst>
              <a:outerShdw dist="63504" dir="19383909" blurRad="0" rotWithShape="0">
                <a:srgbClr val="ff99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300" spc="-1" strike="noStrike">
                  <a:solidFill>
                    <a:srgbClr val="ffffff"/>
                  </a:solidFill>
                  <a:latin typeface="Tahoma"/>
                </a:rPr>
                <a:t>Абсолютно-определенные – </a:t>
              </a:r>
              <a:endParaRPr b="0" lang="en-US" sz="23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300" spc="-1" strike="noStrike">
                  <a:solidFill>
                    <a:srgbClr val="ffffff"/>
                  </a:solidFill>
                  <a:latin typeface="Tahoma"/>
                </a:rPr>
                <a:t>относительно определенные</a:t>
              </a:r>
              <a:endParaRPr b="0" lang="en-US" sz="23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7" name="_s2059"/>
            <p:cNvSpPr/>
            <p:nvPr/>
          </p:nvSpPr>
          <p:spPr>
            <a:xfrm>
              <a:off x="3493800" y="4382640"/>
              <a:ext cx="5469840" cy="11052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ff9900"/>
              </a:solidFill>
              <a:miter/>
            </a:ln>
            <a:effectLst>
              <a:outerShdw dist="63504" dir="19383909" blurRad="0" rotWithShape="0">
                <a:srgbClr val="ff99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300" spc="-1" strike="noStrike">
                  <a:solidFill>
                    <a:srgbClr val="ffffff"/>
                  </a:solidFill>
                  <a:latin typeface="Tahoma"/>
                </a:rPr>
                <a:t>Регулятивные - охранительные</a:t>
              </a:r>
              <a:endParaRPr b="0" lang="en-US" sz="23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4" name="_s2060"/>
            <p:cNvSpPr/>
            <p:nvPr/>
          </p:nvSpPr>
          <p:spPr>
            <a:xfrm>
              <a:off x="3564720" y="5854680"/>
              <a:ext cx="5398560" cy="88668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ff9900"/>
              </a:solidFill>
              <a:miter/>
            </a:ln>
            <a:effectLst>
              <a:outerShdw dist="63504" dir="19383909" blurRad="0" rotWithShape="0">
                <a:srgbClr val="ff99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100" spc="-1" strike="noStrike">
                  <a:solidFill>
                    <a:srgbClr val="ffffff"/>
                  </a:solidFill>
                  <a:latin typeface="Tahoma"/>
                </a:rPr>
                <a:t>Обязывающие--</a:t>
              </a:r>
              <a:endParaRPr b="0" lang="en-US" sz="21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100" spc="-1" strike="noStrike">
                  <a:solidFill>
                    <a:srgbClr val="ffffff"/>
                  </a:solidFill>
                  <a:latin typeface="Tahoma"/>
                </a:rPr>
                <a:t>управомочивающие</a:t>
              </a:r>
              <a:endParaRPr b="0" lang="en-US" sz="21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Нотариальное правоотношение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бщественное отношение, урегулированное нормами  нотариального права, участники которого имеют соответствующие субъективные права и несут юридические обязанности в нотариальном производств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Признаки нотариального правоотношения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AutoShape 4"/>
          <p:cNvSpPr/>
          <p:nvPr/>
        </p:nvSpPr>
        <p:spPr>
          <a:xfrm>
            <a:off x="609480" y="1143000"/>
            <a:ext cx="4191120" cy="1447920"/>
          </a:xfrm>
          <a:custGeom>
            <a:avLst/>
            <a:gdLst>
              <a:gd name="textAreaLeft" fmla="*/ 0 w 4191120"/>
              <a:gd name="textAreaRight" fmla="*/ 4191480 w 4191120"/>
              <a:gd name="textAreaTop" fmla="*/ 187560 h 1447920"/>
              <a:gd name="textAreaBottom" fmla="*/ 126036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меющаяся норма прав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AutoShape 5"/>
          <p:cNvSpPr/>
          <p:nvPr/>
        </p:nvSpPr>
        <p:spPr>
          <a:xfrm>
            <a:off x="609480" y="2743200"/>
            <a:ext cx="4876920" cy="1600200"/>
          </a:xfrm>
          <a:custGeom>
            <a:avLst/>
            <a:gdLst>
              <a:gd name="textAreaLeft" fmla="*/ 0 w 4876920"/>
              <a:gd name="textAreaRight" fmla="*/ 4877280 w 4876920"/>
              <a:gd name="textAreaTop" fmla="*/ 207360 h 1600200"/>
              <a:gd name="textAreaBottom" fmla="*/ 139284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авоспособность участнико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AutoShape 6"/>
          <p:cNvSpPr/>
          <p:nvPr/>
        </p:nvSpPr>
        <p:spPr>
          <a:xfrm>
            <a:off x="914400" y="4800600"/>
            <a:ext cx="6400800" cy="1676520"/>
          </a:xfrm>
          <a:custGeom>
            <a:avLst/>
            <a:gdLst>
              <a:gd name="textAreaLeft" fmla="*/ 0 w 6400800"/>
              <a:gd name="textAreaRight" fmla="*/ 6401160 w 6400800"/>
              <a:gd name="textAreaTop" fmla="*/ 217080 h 1676520"/>
              <a:gd name="textAreaBottom" fmla="*/ 145944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аличие юридического факта как основани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озникновения, развития, прекращения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отариального правоотношения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AutoShape 7"/>
          <p:cNvSpPr/>
          <p:nvPr/>
        </p:nvSpPr>
        <p:spPr>
          <a:xfrm>
            <a:off x="6705720" y="1066680"/>
            <a:ext cx="1523880" cy="4419720"/>
          </a:xfrm>
          <a:custGeom>
            <a:avLst/>
            <a:gdLst>
              <a:gd name="textAreaLeft" fmla="*/ 217440 w 1523880"/>
              <a:gd name="textAreaRight" fmla="*/ 1306440 w 1523880"/>
              <a:gd name="textAreaTop" fmla="*/ 2525760 h 4419720"/>
              <a:gd name="textAreaBottom" fmla="*/ 3788280 h 441972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6171"/>
                </a:lnTo>
                <a:lnTo>
                  <a:pt x="12343" y="6171"/>
                </a:lnTo>
                <a:lnTo>
                  <a:pt x="12343" y="12343"/>
                </a:lnTo>
                <a:lnTo>
                  <a:pt x="6171" y="12343"/>
                </a:lnTo>
                <a:lnTo>
                  <a:pt x="6171" y="9257"/>
                </a:lnTo>
                <a:lnTo>
                  <a:pt x="0" y="15429"/>
                </a:lnTo>
                <a:lnTo>
                  <a:pt x="6171" y="21600"/>
                </a:lnTo>
                <a:lnTo>
                  <a:pt x="6171" y="18514"/>
                </a:lnTo>
                <a:lnTo>
                  <a:pt x="18514" y="18514"/>
                </a:lnTo>
                <a:lnTo>
                  <a:pt x="18514" y="6171"/>
                </a:lnTo>
                <a:lnTo>
                  <a:pt x="21600" y="6171"/>
                </a:lnTo>
                <a:lnTo>
                  <a:pt x="15429" y="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план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сторические основы российского нотариат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отариат как учебная дисциплина: понятие, предмет, метод, система, источник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Задачи, функции и принципы нотариат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есто нотариата в правовой системе РФ. Нотариат и другие виды юридической помощ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79520" y="115920"/>
            <a:ext cx="81849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ffcc"/>
                </a:solidFill>
                <a:latin typeface="Tahoma"/>
              </a:rPr>
              <a:t>Структура  правоотношения.</a:t>
            </a:r>
            <a:endParaRPr b="0" lang="en-US" sz="3400" spc="-1" strike="noStrike">
              <a:solidFill>
                <a:srgbClr val="ffffcc"/>
              </a:solidFill>
              <a:latin typeface="Tahoma"/>
            </a:endParaRPr>
          </a:p>
        </p:txBody>
      </p:sp>
      <p:grpSp>
        <p:nvGrpSpPr>
          <p:cNvPr id="151" name="Organization Chart 6"/>
          <p:cNvGrpSpPr/>
          <p:nvPr/>
        </p:nvGrpSpPr>
        <p:grpSpPr>
          <a:xfrm>
            <a:off x="250920" y="981000"/>
            <a:ext cx="8641440" cy="5686920"/>
            <a:chOff x="250920" y="981000"/>
            <a:chExt cx="8641440" cy="5686920"/>
          </a:xfrm>
        </p:grpSpPr>
        <p:cxnSp>
          <p:nvCxnSpPr>
            <p:cNvPr id="152" name="_s3076"/>
            <p:cNvCxnSpPr>
              <a:stCxn id="153" idx="0"/>
              <a:endCxn id="154" idx="2"/>
            </p:cNvCxnSpPr>
            <p:nvPr/>
          </p:nvCxnSpPr>
          <p:spPr>
            <a:xfrm flipV="1" rot="16200000">
              <a:off x="6791400" y="4248000"/>
              <a:ext cx="711360" cy="1284840"/>
            </a:xfrm>
            <a:prstGeom prst="bentConnector3">
              <a:avLst>
                <a:gd name="adj1" fmla="val 17873"/>
              </a:avLst>
            </a:prstGeom>
            <a:ln w="9360">
              <a:solidFill>
                <a:srgbClr val="ffffff"/>
              </a:solidFill>
              <a:miter/>
            </a:ln>
          </p:spPr>
        </p:cxnSp>
        <p:cxnSp>
          <p:nvCxnSpPr>
            <p:cNvPr id="155" name="_s3077"/>
            <p:cNvCxnSpPr>
              <a:stCxn id="156" idx="0"/>
              <a:endCxn id="154" idx="1"/>
            </p:cNvCxnSpPr>
            <p:nvPr/>
          </p:nvCxnSpPr>
          <p:spPr>
            <a:xfrm flipH="1" flipV="1" rot="5400000">
              <a:off x="5504400" y="4245480"/>
              <a:ext cx="711360" cy="1290240"/>
            </a:xfrm>
            <a:prstGeom prst="bentConnector3">
              <a:avLst>
                <a:gd name="adj1" fmla="val 17873"/>
              </a:avLst>
            </a:prstGeom>
            <a:ln w="9360">
              <a:solidFill>
                <a:srgbClr val="ffffff"/>
              </a:solidFill>
              <a:miter/>
            </a:ln>
          </p:spPr>
        </p:cxnSp>
        <p:cxnSp>
          <p:nvCxnSpPr>
            <p:cNvPr id="157" name="_s3078"/>
            <p:cNvCxnSpPr>
              <a:stCxn id="154" idx="0"/>
              <a:endCxn id="158" idx="2"/>
            </p:cNvCxnSpPr>
            <p:nvPr/>
          </p:nvCxnSpPr>
          <p:spPr>
            <a:xfrm flipV="1" rot="16200000">
              <a:off x="4868640" y="1476720"/>
              <a:ext cx="711360" cy="2561760"/>
            </a:xfrm>
            <a:prstGeom prst="bentConnector3">
              <a:avLst>
                <a:gd name="adj1" fmla="val 17822"/>
              </a:avLst>
            </a:prstGeom>
            <a:ln w="9360">
              <a:solidFill>
                <a:srgbClr val="ffffff"/>
              </a:solidFill>
              <a:miter/>
            </a:ln>
          </p:spPr>
        </p:cxnSp>
        <p:cxnSp>
          <p:nvCxnSpPr>
            <p:cNvPr id="159" name="_s3079"/>
            <p:cNvCxnSpPr>
              <a:stCxn id="160" idx="0"/>
              <a:endCxn id="158" idx="1"/>
            </p:cNvCxnSpPr>
            <p:nvPr/>
          </p:nvCxnSpPr>
          <p:spPr>
            <a:xfrm flipH="1" flipV="1" rot="5400000">
              <a:off x="3585240" y="2755080"/>
              <a:ext cx="711360" cy="5760"/>
            </a:xfrm>
            <a:prstGeom prst="bentConnector3">
              <a:avLst>
                <a:gd name="adj1" fmla="val 17822"/>
              </a:avLst>
            </a:prstGeom>
            <a:ln w="9360">
              <a:solidFill>
                <a:srgbClr val="ffffff"/>
              </a:solidFill>
              <a:miter/>
            </a:ln>
          </p:spPr>
        </p:cxnSp>
        <p:cxnSp>
          <p:nvCxnSpPr>
            <p:cNvPr id="161" name="_s3080"/>
            <p:cNvCxnSpPr>
              <a:stCxn id="162" idx="0"/>
              <a:endCxn id="158" idx="0"/>
            </p:cNvCxnSpPr>
            <p:nvPr/>
          </p:nvCxnSpPr>
          <p:spPr>
            <a:xfrm flipH="1" flipV="1" rot="5400000">
              <a:off x="2292840" y="1462680"/>
              <a:ext cx="711360" cy="2590200"/>
            </a:xfrm>
            <a:prstGeom prst="bentConnector3">
              <a:avLst>
                <a:gd name="adj1" fmla="val 17822"/>
              </a:avLst>
            </a:prstGeom>
            <a:ln w="9360">
              <a:solidFill>
                <a:srgbClr val="ffffff"/>
              </a:solidFill>
              <a:miter/>
            </a:ln>
          </p:spPr>
        </p:cxnSp>
        <p:sp>
          <p:nvSpPr>
            <p:cNvPr id="158" name="_s3081"/>
            <p:cNvSpPr/>
            <p:nvPr/>
          </p:nvSpPr>
          <p:spPr>
            <a:xfrm>
              <a:off x="2171520" y="981000"/>
              <a:ext cx="3543840" cy="1421640"/>
            </a:xfrm>
            <a:prstGeom prst="bevel">
              <a:avLst>
                <a:gd name="adj" fmla="val 12500"/>
              </a:avLst>
            </a:prstGeom>
            <a:solidFill>
              <a:srgbClr val="ff3300">
                <a:alpha val="50000"/>
              </a:srgbClr>
            </a:solidFill>
            <a:ln w="9360">
              <a:solidFill>
                <a:srgbClr val="72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ffff"/>
                  </a:solidFill>
                  <a:latin typeface="Tahoma"/>
                </a:rPr>
                <a:t>ПРАВООТНОШЕНИЕ</a:t>
              </a:r>
              <a:endParaRPr b="0" lang="en-US" sz="27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2" name="_s3082"/>
            <p:cNvSpPr/>
            <p:nvPr/>
          </p:nvSpPr>
          <p:spPr>
            <a:xfrm>
              <a:off x="250920" y="3113640"/>
              <a:ext cx="2206080" cy="1421640"/>
            </a:xfrm>
            <a:prstGeom prst="bevel">
              <a:avLst>
                <a:gd name="adj" fmla="val 12500"/>
              </a:avLst>
            </a:prstGeom>
            <a:solidFill>
              <a:srgbClr val="be7960">
                <a:alpha val="50000"/>
              </a:srgbClr>
            </a:solidFill>
            <a:ln w="9360">
              <a:solidFill>
                <a:srgbClr val="72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ff"/>
                  </a:solidFill>
                  <a:latin typeface="Tahoma"/>
                </a:rPr>
                <a:t>Субъект</a:t>
              </a:r>
              <a:endParaRPr b="0" lang="en-US" sz="25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0" name="_s3083"/>
            <p:cNvSpPr/>
            <p:nvPr/>
          </p:nvSpPr>
          <p:spPr>
            <a:xfrm>
              <a:off x="2824920" y="3113640"/>
              <a:ext cx="2226960" cy="1421640"/>
            </a:xfrm>
            <a:prstGeom prst="bevel">
              <a:avLst>
                <a:gd name="adj" fmla="val 12500"/>
              </a:avLst>
            </a:prstGeom>
            <a:solidFill>
              <a:srgbClr val="be7960">
                <a:alpha val="50000"/>
              </a:srgbClr>
            </a:solidFill>
            <a:ln w="9360">
              <a:solidFill>
                <a:srgbClr val="72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ff"/>
                  </a:solidFill>
                  <a:latin typeface="Tahoma"/>
                </a:rPr>
                <a:t>Объект</a:t>
              </a:r>
              <a:r>
                <a:rPr b="0" lang="en-US" sz="21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endParaRPr b="0" lang="en-US" sz="2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4" name="_s3084"/>
            <p:cNvSpPr/>
            <p:nvPr/>
          </p:nvSpPr>
          <p:spPr>
            <a:xfrm>
              <a:off x="5398920" y="3113640"/>
              <a:ext cx="2206080" cy="1421640"/>
            </a:xfrm>
            <a:prstGeom prst="bevel">
              <a:avLst>
                <a:gd name="adj" fmla="val 12500"/>
              </a:avLst>
            </a:prstGeom>
            <a:solidFill>
              <a:srgbClr val="be7960">
                <a:alpha val="50000"/>
              </a:srgbClr>
            </a:solidFill>
            <a:ln w="9360">
              <a:solidFill>
                <a:srgbClr val="72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0" lang="en-US" sz="2500" spc="-1" strike="noStrike">
                  <a:solidFill>
                    <a:srgbClr val="ffffff"/>
                  </a:solidFill>
                  <a:latin typeface="Tahoma"/>
                </a:rPr>
                <a:t>Содержание</a:t>
              </a:r>
              <a:r>
                <a:rPr b="0" lang="en-US" sz="21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endParaRPr b="0" lang="en-US" sz="2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6" name="_s3085"/>
            <p:cNvSpPr/>
            <p:nvPr/>
          </p:nvSpPr>
          <p:spPr>
            <a:xfrm>
              <a:off x="4112280" y="5246280"/>
              <a:ext cx="2206080" cy="1421640"/>
            </a:xfrm>
            <a:prstGeom prst="bevel">
              <a:avLst>
                <a:gd name="adj" fmla="val 12500"/>
              </a:avLst>
            </a:prstGeom>
            <a:solidFill>
              <a:srgbClr val="ffcc66">
                <a:alpha val="50000"/>
              </a:srgbClr>
            </a:solidFill>
            <a:ln w="9360">
              <a:solidFill>
                <a:srgbClr val="72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0" lang="en-US" sz="2200" spc="-1" strike="noStrike">
                  <a:solidFill>
                    <a:srgbClr val="ffffff"/>
                  </a:solidFill>
                  <a:latin typeface="Tahoma"/>
                </a:rPr>
                <a:t>Субъективное</a:t>
              </a:r>
              <a:r>
                <a:rPr b="0" lang="en-US" sz="21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endParaRPr b="0" lang="en-US" sz="21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Tahoma"/>
                </a:rPr>
                <a:t>право</a:t>
              </a:r>
              <a:endParaRPr b="0" lang="en-US" sz="2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3" name="_s3086"/>
            <p:cNvSpPr/>
            <p:nvPr/>
          </p:nvSpPr>
          <p:spPr>
            <a:xfrm>
              <a:off x="6686280" y="5246280"/>
              <a:ext cx="2206080" cy="1421640"/>
            </a:xfrm>
            <a:prstGeom prst="bevel">
              <a:avLst>
                <a:gd name="adj" fmla="val 12500"/>
              </a:avLst>
            </a:prstGeom>
            <a:solidFill>
              <a:srgbClr val="ffcc66">
                <a:alpha val="50000"/>
              </a:srgbClr>
            </a:solidFill>
            <a:ln w="9360">
              <a:solidFill>
                <a:srgbClr val="72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0" lang="en-US" sz="2200" spc="-1" strike="noStrike">
                  <a:solidFill>
                    <a:srgbClr val="ffffff"/>
                  </a:solidFill>
                  <a:latin typeface="Tahoma"/>
                </a:rPr>
                <a:t>Юридическая </a:t>
              </a:r>
              <a:endParaRPr b="0" lang="en-US" sz="22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0" lang="en-US" sz="2200" spc="-1" strike="noStrike">
                  <a:solidFill>
                    <a:srgbClr val="ffffff"/>
                  </a:solidFill>
                  <a:latin typeface="Tahoma"/>
                </a:rPr>
                <a:t>обязанность</a:t>
              </a:r>
              <a:r>
                <a:rPr b="0" lang="en-US" sz="21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endParaRPr b="0" lang="en-US" sz="21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Субъекты нотариального правоотношения обладают правосубъектностью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79280" y="1196640"/>
            <a:ext cx="8856720" cy="154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33cc33"/>
                </a:solidFill>
                <a:latin typeface="Tahoma"/>
              </a:rPr>
              <a:t>Правосубъектность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– предусмотренная нормами права способность (возможность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быть участником нотариального производств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65" name="Organization Chart 10"/>
          <p:cNvGrpSpPr/>
          <p:nvPr/>
        </p:nvGrpSpPr>
        <p:grpSpPr>
          <a:xfrm>
            <a:off x="250920" y="2924280"/>
            <a:ext cx="8713080" cy="3932640"/>
            <a:chOff x="250920" y="2924280"/>
            <a:chExt cx="8713080" cy="3932640"/>
          </a:xfrm>
        </p:grpSpPr>
        <p:cxnSp>
          <p:nvCxnSpPr>
            <p:cNvPr id="166" name="_s4100"/>
            <p:cNvCxnSpPr>
              <a:stCxn id="167" idx="0"/>
              <a:endCxn id="168" idx="2"/>
            </p:cNvCxnSpPr>
            <p:nvPr/>
          </p:nvCxnSpPr>
          <p:spPr>
            <a:xfrm flipV="1" rot="16200000">
              <a:off x="5515920" y="3404520"/>
              <a:ext cx="1187280" cy="3004920"/>
            </a:xfrm>
            <a:prstGeom prst="bentConnector3">
              <a:avLst>
                <a:gd name="adj1" fmla="val 11161"/>
              </a:avLst>
            </a:prstGeom>
            <a:ln w="9360">
              <a:solidFill>
                <a:srgbClr val="ffffff"/>
              </a:solidFill>
              <a:miter/>
            </a:ln>
          </p:spPr>
        </p:cxnSp>
        <p:cxnSp>
          <p:nvCxnSpPr>
            <p:cNvPr id="169" name="_s4101"/>
            <p:cNvCxnSpPr>
              <a:stCxn id="170" idx="0"/>
              <a:endCxn id="168" idx="1"/>
            </p:cNvCxnSpPr>
            <p:nvPr/>
          </p:nvCxnSpPr>
          <p:spPr>
            <a:xfrm flipH="1" flipV="1" rot="5400000">
              <a:off x="3996000" y="4889160"/>
              <a:ext cx="1187280" cy="35640"/>
            </a:xfrm>
            <a:prstGeom prst="bentConnector3">
              <a:avLst>
                <a:gd name="adj1" fmla="val 11161"/>
              </a:avLst>
            </a:prstGeom>
            <a:ln w="9360">
              <a:solidFill>
                <a:srgbClr val="ffffff"/>
              </a:solidFill>
              <a:miter/>
            </a:ln>
          </p:spPr>
        </p:cxnSp>
        <p:cxnSp>
          <p:nvCxnSpPr>
            <p:cNvPr id="171" name="_s4102"/>
            <p:cNvCxnSpPr>
              <a:stCxn id="172" idx="0"/>
              <a:endCxn id="168" idx="0"/>
            </p:cNvCxnSpPr>
            <p:nvPr/>
          </p:nvCxnSpPr>
          <p:spPr>
            <a:xfrm flipH="1" flipV="1" rot="5400000">
              <a:off x="2494080" y="3387240"/>
              <a:ext cx="1187280" cy="3039480"/>
            </a:xfrm>
            <a:prstGeom prst="bentConnector3">
              <a:avLst>
                <a:gd name="adj1" fmla="val 11161"/>
              </a:avLst>
            </a:prstGeom>
            <a:ln w="9360">
              <a:solidFill>
                <a:srgbClr val="ffffff"/>
              </a:solidFill>
              <a:miter/>
            </a:ln>
          </p:spPr>
        </p:cxnSp>
        <p:sp>
          <p:nvSpPr>
            <p:cNvPr id="168" name="_s4103"/>
            <p:cNvSpPr/>
            <p:nvPr/>
          </p:nvSpPr>
          <p:spPr>
            <a:xfrm>
              <a:off x="2824920" y="2924280"/>
              <a:ext cx="3564720" cy="138960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ff3300"/>
                </a:gs>
                <a:gs pos="50000">
                  <a:srgbClr val="720000"/>
                </a:gs>
                <a:gs pos="100000">
                  <a:srgbClr val="ff3300"/>
                </a:gs>
              </a:gsLst>
              <a:lin ang="8100000"/>
            </a:gradFill>
            <a:ln w="3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Tahoma"/>
                </a:rPr>
                <a:t>ПРАВОСУБЪЕКТНОСТЬ</a:t>
              </a:r>
              <a:endParaRPr b="0" lang="en-US" sz="2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2" name="_s4104"/>
            <p:cNvSpPr/>
            <p:nvPr/>
          </p:nvSpPr>
          <p:spPr>
            <a:xfrm>
              <a:off x="250920" y="5500440"/>
              <a:ext cx="2638440" cy="135648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be7960"/>
                </a:gs>
                <a:gs pos="50000">
                  <a:srgbClr val="720000"/>
                </a:gs>
                <a:gs pos="100000">
                  <a:srgbClr val="be7960"/>
                </a:gs>
              </a:gsLst>
              <a:lin ang="8100000"/>
            </a:gradFill>
            <a:ln w="3240">
              <a:solidFill>
                <a:srgbClr val="be79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Tahoma"/>
                </a:rPr>
                <a:t>  </a:t>
              </a:r>
              <a:r>
                <a:rPr b="0" lang="en-US" sz="2200" spc="-1" strike="noStrike">
                  <a:solidFill>
                    <a:srgbClr val="ffffff"/>
                  </a:solidFill>
                  <a:latin typeface="Tahoma"/>
                </a:rPr>
                <a:t>Правоспособность  </a:t>
              </a:r>
              <a:endParaRPr b="0" lang="en-US" sz="2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0" name="_s4105"/>
            <p:cNvSpPr/>
            <p:nvPr/>
          </p:nvSpPr>
          <p:spPr>
            <a:xfrm>
              <a:off x="3310200" y="5500440"/>
              <a:ext cx="2524320" cy="135648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be7960"/>
                </a:gs>
                <a:gs pos="50000">
                  <a:srgbClr val="720000"/>
                </a:gs>
                <a:gs pos="100000">
                  <a:srgbClr val="be7960"/>
                </a:gs>
              </a:gsLst>
              <a:lin ang="8100000"/>
            </a:gradFill>
            <a:ln w="3240">
              <a:solidFill>
                <a:srgbClr val="be79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Tahoma"/>
                </a:rPr>
                <a:t>  </a:t>
              </a:r>
              <a:r>
                <a:rPr b="0" lang="en-US" sz="2200" spc="-1" strike="noStrike">
                  <a:solidFill>
                    <a:srgbClr val="ffffff"/>
                  </a:solidFill>
                  <a:latin typeface="Tahoma"/>
                </a:rPr>
                <a:t>Дееспособность </a:t>
              </a:r>
              <a:endParaRPr b="0" lang="en-US" sz="2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7" name="_s4106"/>
            <p:cNvSpPr/>
            <p:nvPr/>
          </p:nvSpPr>
          <p:spPr>
            <a:xfrm>
              <a:off x="6255360" y="5500440"/>
              <a:ext cx="2708640" cy="135648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be7960"/>
                </a:gs>
                <a:gs pos="50000">
                  <a:srgbClr val="720000"/>
                </a:gs>
                <a:gs pos="100000">
                  <a:srgbClr val="be7960"/>
                </a:gs>
              </a:gsLst>
              <a:lin ang="8100000"/>
            </a:gradFill>
            <a:ln w="3240">
              <a:solidFill>
                <a:srgbClr val="be79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  </a:t>
              </a: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Деликто</a:t>
              </a:r>
              <a:r>
                <a:rPr b="0" lang="en-US" sz="1900" spc="-1" strike="noStrike">
                  <a:solidFill>
                    <a:srgbClr val="ffffff"/>
                  </a:solidFill>
                  <a:latin typeface="Tahoma"/>
                </a:rPr>
                <a:t>способность</a:t>
              </a: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" name="Organization Chart 6"/>
          <p:cNvGrpSpPr/>
          <p:nvPr/>
        </p:nvGrpSpPr>
        <p:grpSpPr>
          <a:xfrm>
            <a:off x="457200" y="189000"/>
            <a:ext cx="8506800" cy="6478200"/>
            <a:chOff x="457200" y="189000"/>
            <a:chExt cx="8506800" cy="6478200"/>
          </a:xfrm>
        </p:grpSpPr>
        <p:cxnSp>
          <p:nvCxnSpPr>
            <p:cNvPr id="174" name="_s5124"/>
            <p:cNvCxnSpPr>
              <a:stCxn id="175" idx="0"/>
              <a:endCxn id="176" idx="2"/>
            </p:cNvCxnSpPr>
            <p:nvPr/>
          </p:nvCxnSpPr>
          <p:spPr>
            <a:xfrm flipV="1" rot="16200000">
              <a:off x="5564160" y="1951560"/>
              <a:ext cx="1269720" cy="2977920"/>
            </a:xfrm>
            <a:prstGeom prst="bentConnector3">
              <a:avLst>
                <a:gd name="adj1" fmla="val 9217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77" name="_s5125"/>
            <p:cNvCxnSpPr>
              <a:stCxn id="178" idx="0"/>
              <a:endCxn id="176" idx="2"/>
            </p:cNvCxnSpPr>
            <p:nvPr/>
          </p:nvCxnSpPr>
          <p:spPr>
            <a:xfrm flipV="1">
              <a:off x="4710240" y="2805840"/>
              <a:ext cx="3240" cy="12697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79" name="_s5126"/>
            <p:cNvCxnSpPr>
              <a:stCxn id="180" idx="0"/>
              <a:endCxn id="176" idx="2"/>
            </p:cNvCxnSpPr>
            <p:nvPr/>
          </p:nvCxnSpPr>
          <p:spPr>
            <a:xfrm flipH="1" flipV="1" rot="5400000">
              <a:off x="2586960" y="1951920"/>
              <a:ext cx="1269720" cy="2977920"/>
            </a:xfrm>
            <a:prstGeom prst="bentConnector3">
              <a:avLst>
                <a:gd name="adj1" fmla="val 9217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76" name="_s5127"/>
            <p:cNvSpPr/>
            <p:nvPr/>
          </p:nvSpPr>
          <p:spPr>
            <a:xfrm>
              <a:off x="1880640" y="189000"/>
              <a:ext cx="5659560" cy="2591280"/>
            </a:xfrm>
            <a:prstGeom prst="rect">
              <a:avLst/>
            </a:prstGeom>
            <a:solidFill>
              <a:srgbClr val="ff3300">
                <a:alpha val="50000"/>
              </a:srgbClr>
            </a:solidFill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cc33"/>
                  </a:solidFill>
                  <a:latin typeface="Tahoma"/>
                </a:rPr>
                <a:t>СУБЪЕКТИВНОЕ ПРАВО</a:t>
              </a: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 – 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предусмотренная нормами права 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 u="sng">
                  <a:solidFill>
                    <a:srgbClr val="ffffff"/>
                  </a:solidFill>
                  <a:uFillTx/>
                  <a:latin typeface="Tahoma"/>
                </a:rPr>
                <a:t>мера возможного поведения</a:t>
              </a: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субъекта правоотношений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0" name="_s5128"/>
            <p:cNvSpPr/>
            <p:nvPr/>
          </p:nvSpPr>
          <p:spPr>
            <a:xfrm>
              <a:off x="457200" y="4075920"/>
              <a:ext cx="2552040" cy="2591280"/>
            </a:xfrm>
            <a:prstGeom prst="rect">
              <a:avLst/>
            </a:prstGeom>
            <a:solidFill>
              <a:srgbClr val="be7960">
                <a:alpha val="50000"/>
              </a:srgbClr>
            </a:solidFill>
            <a:ln w="57240">
              <a:solidFill>
                <a:srgbClr val="be79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343080" indent="-34308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ПРАВО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marL="343080" indent="-34308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(ВОЗМОЖНОСТЬ) 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marL="343080" indent="-34308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СОВЕРШАТЬ 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marL="343080" indent="-34308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ОПРЕДЕЛЕННЫЕ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marL="343080" indent="-34308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ДЕЙСТВИЯ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8" name="_s5129"/>
            <p:cNvSpPr/>
            <p:nvPr/>
          </p:nvSpPr>
          <p:spPr>
            <a:xfrm>
              <a:off x="3434400" y="4075920"/>
              <a:ext cx="2552040" cy="2591280"/>
            </a:xfrm>
            <a:prstGeom prst="rect">
              <a:avLst/>
            </a:prstGeom>
            <a:solidFill>
              <a:srgbClr val="be7960">
                <a:alpha val="50000"/>
              </a:srgbClr>
            </a:solidFill>
            <a:ln w="57240">
              <a:solidFill>
                <a:srgbClr val="be79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Tahoma"/>
                </a:rPr>
                <a:t>ПРАВО</a:t>
              </a:r>
              <a:endParaRPr b="0" lang="en-US" sz="22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Tahoma"/>
                </a:rPr>
                <a:t>(ВОЗМОЖНОСТЬ)</a:t>
              </a:r>
              <a:endParaRPr b="0" lang="en-US" sz="22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Tahoma"/>
                </a:rPr>
                <a:t>ТРЕБОВАНИЯ</a:t>
              </a:r>
              <a:endParaRPr b="0" lang="en-US" sz="22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Tahoma"/>
                </a:rPr>
                <a:t>ОПРЕДЕЛЕННОГО </a:t>
              </a:r>
              <a:endParaRPr b="0" lang="en-US" sz="22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Tahoma"/>
                </a:rPr>
                <a:t>ПОВЕДЕНИЯ  </a:t>
              </a:r>
              <a:endParaRPr b="0" lang="en-US" sz="2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5" name="_s5130"/>
            <p:cNvSpPr/>
            <p:nvPr/>
          </p:nvSpPr>
          <p:spPr>
            <a:xfrm>
              <a:off x="6411960" y="4075920"/>
              <a:ext cx="2552040" cy="2591280"/>
            </a:xfrm>
            <a:prstGeom prst="rect">
              <a:avLst/>
            </a:prstGeom>
            <a:solidFill>
              <a:srgbClr val="be7960">
                <a:alpha val="50000"/>
              </a:srgbClr>
            </a:solidFill>
            <a:ln w="57240">
              <a:solidFill>
                <a:srgbClr val="be79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Tahoma"/>
                </a:rPr>
                <a:t>ПРАВО</a:t>
              </a:r>
              <a:endParaRPr b="0" lang="en-US" sz="22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Tahoma"/>
                </a:rPr>
                <a:t>(ВОЗМОЖНОСТЬ)</a:t>
              </a:r>
              <a:endParaRPr b="0" lang="en-US" sz="22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Tahoma"/>
                </a:rPr>
                <a:t>ОБРАТИТЬСЯ </a:t>
              </a:r>
              <a:endParaRPr b="0" lang="en-US" sz="22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Tahoma"/>
                </a:rPr>
                <a:t>ЗА ЗАЩИТОЙ В</a:t>
              </a:r>
              <a:endParaRPr b="0" lang="en-US" sz="22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КОМПЕТЕНТНЫЕ 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ГОСОРГАНЫ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1" name="Organization Chart 4"/>
          <p:cNvGrpSpPr/>
          <p:nvPr/>
        </p:nvGrpSpPr>
        <p:grpSpPr>
          <a:xfrm>
            <a:off x="179280" y="260280"/>
            <a:ext cx="8784720" cy="6405480"/>
            <a:chOff x="179280" y="260280"/>
            <a:chExt cx="8784720" cy="6405480"/>
          </a:xfrm>
        </p:grpSpPr>
        <p:cxnSp>
          <p:nvCxnSpPr>
            <p:cNvPr id="182" name="_s6148"/>
            <p:cNvCxnSpPr>
              <a:stCxn id="183" idx="0"/>
              <a:endCxn id="184" idx="2"/>
            </p:cNvCxnSpPr>
            <p:nvPr/>
          </p:nvCxnSpPr>
          <p:spPr>
            <a:xfrm flipV="1" rot="16200000">
              <a:off x="5494320" y="1924920"/>
              <a:ext cx="1229040" cy="3075480"/>
            </a:xfrm>
            <a:prstGeom prst="bentConnector3">
              <a:avLst>
                <a:gd name="adj1" fmla="val 9668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85" name="_s6149"/>
            <p:cNvCxnSpPr>
              <a:stCxn id="186" idx="0"/>
              <a:endCxn id="184" idx="2"/>
            </p:cNvCxnSpPr>
            <p:nvPr/>
          </p:nvCxnSpPr>
          <p:spPr>
            <a:xfrm flipV="1">
              <a:off x="4571280" y="2848320"/>
              <a:ext cx="3240" cy="122904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87" name="_s6150"/>
            <p:cNvCxnSpPr>
              <a:stCxn id="188" idx="0"/>
              <a:endCxn id="184" idx="2"/>
            </p:cNvCxnSpPr>
            <p:nvPr/>
          </p:nvCxnSpPr>
          <p:spPr>
            <a:xfrm flipH="1" flipV="1" rot="5400000">
              <a:off x="2419560" y="1924920"/>
              <a:ext cx="1229040" cy="3075480"/>
            </a:xfrm>
            <a:prstGeom prst="bentConnector3">
              <a:avLst>
                <a:gd name="adj1" fmla="val 9668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84" name="_s6151"/>
            <p:cNvSpPr/>
            <p:nvPr/>
          </p:nvSpPr>
          <p:spPr>
            <a:xfrm>
              <a:off x="1649160" y="260280"/>
              <a:ext cx="5844240" cy="2562120"/>
            </a:xfrm>
            <a:prstGeom prst="rect">
              <a:avLst/>
            </a:prstGeom>
            <a:solidFill>
              <a:srgbClr val="ff3300">
                <a:alpha val="50000"/>
              </a:srgbClr>
            </a:solidFill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33cc33"/>
                  </a:solidFill>
                  <a:latin typeface="Tahoma"/>
                </a:rPr>
                <a:t> </a:t>
              </a:r>
              <a:r>
                <a:rPr b="0" lang="en-US" sz="2900" spc="-1" strike="noStrike">
                  <a:solidFill>
                    <a:srgbClr val="33cc33"/>
                  </a:solidFill>
                  <a:latin typeface="Tahoma"/>
                </a:rPr>
                <a:t>ЮРИДИЧЕСКАЯ ОБЯЗАННОСТЬ</a:t>
              </a:r>
              <a:r>
                <a:rPr b="0" lang="en-US" sz="2900" spc="-1" strike="noStrike">
                  <a:solidFill>
                    <a:srgbClr val="ffffff"/>
                  </a:solidFill>
                  <a:latin typeface="Tahoma"/>
                </a:rPr>
                <a:t> – </a:t>
              </a:r>
              <a:endParaRPr b="0" lang="en-US" sz="29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0" lang="en-US" sz="2900" spc="-1" strike="noStrike">
                  <a:solidFill>
                    <a:srgbClr val="ffffff"/>
                  </a:solidFill>
                  <a:latin typeface="Tahoma"/>
                </a:rPr>
                <a:t>предусмотренная нормами права </a:t>
              </a:r>
              <a:endParaRPr b="0" lang="en-US" sz="29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 u="sng">
                  <a:solidFill>
                    <a:srgbClr val="ffffff"/>
                  </a:solidFill>
                  <a:uFillTx/>
                  <a:latin typeface="Tahoma"/>
                </a:rPr>
                <a:t>мера должного поведения</a:t>
              </a:r>
              <a:r>
                <a:rPr b="0" lang="en-US" sz="29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endParaRPr b="0" lang="en-US" sz="29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ffffff"/>
                  </a:solidFill>
                  <a:latin typeface="Tahoma"/>
                </a:rPr>
                <a:t>субъекта правоотношений</a:t>
              </a:r>
              <a:endParaRPr b="0" lang="en-US" sz="29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8" name="_s6152"/>
            <p:cNvSpPr/>
            <p:nvPr/>
          </p:nvSpPr>
          <p:spPr>
            <a:xfrm>
              <a:off x="179280" y="4103640"/>
              <a:ext cx="2635200" cy="2562120"/>
            </a:xfrm>
            <a:prstGeom prst="rect">
              <a:avLst/>
            </a:prstGeom>
            <a:solidFill>
              <a:srgbClr val="be7960">
                <a:alpha val="50000"/>
              </a:srgbClr>
            </a:solidFill>
            <a:ln w="57240">
              <a:solidFill>
                <a:srgbClr val="be79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343080" indent="-343080"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500" spc="-1" strike="noStrike">
                  <a:solidFill>
                    <a:srgbClr val="33cc33"/>
                  </a:solidFill>
                  <a:latin typeface="Tahoma"/>
                </a:rPr>
                <a:t>Активная </a:t>
              </a:r>
              <a:endParaRPr b="0" lang="en-US" sz="2500" spc="-1" strike="noStrike">
                <a:solidFill>
                  <a:srgbClr val="ffffff"/>
                </a:solidFill>
                <a:latin typeface="Tahoma"/>
              </a:endParaRPr>
            </a:p>
            <a:p>
              <a:pPr marL="343080" indent="-343080"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500" spc="-1" strike="noStrike">
                  <a:solidFill>
                    <a:srgbClr val="33cc33"/>
                  </a:solidFill>
                  <a:latin typeface="Tahoma"/>
                </a:rPr>
                <a:t>обязанность</a:t>
              </a:r>
              <a:endParaRPr b="0" lang="en-US" sz="2500" spc="-1" strike="noStrike">
                <a:solidFill>
                  <a:srgbClr val="ffffff"/>
                </a:solidFill>
                <a:latin typeface="Tahoma"/>
              </a:endParaRPr>
            </a:p>
            <a:p>
              <a:pPr marL="343080" indent="-343080" algn="ctr">
                <a:lnSpc>
                  <a:spcPct val="1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ff"/>
                  </a:solidFill>
                  <a:latin typeface="Tahoma"/>
                </a:rPr>
                <a:t>СОВЕРШЕНИЕ</a:t>
              </a:r>
              <a:endParaRPr b="0" lang="en-US" sz="2500" spc="-1" strike="noStrike">
                <a:solidFill>
                  <a:srgbClr val="ffffff"/>
                </a:solidFill>
                <a:latin typeface="Tahoma"/>
              </a:endParaRPr>
            </a:p>
            <a:p>
              <a:pPr marL="343080" indent="-34308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ff"/>
                  </a:solidFill>
                  <a:latin typeface="Tahoma"/>
                </a:rPr>
                <a:t>ОПРЕДЕЛЕННЫХ</a:t>
              </a:r>
              <a:endParaRPr b="0" lang="en-US" sz="2500" spc="-1" strike="noStrike">
                <a:solidFill>
                  <a:srgbClr val="ffffff"/>
                </a:solidFill>
                <a:latin typeface="Tahoma"/>
              </a:endParaRPr>
            </a:p>
            <a:p>
              <a:pPr marL="343080" indent="-34308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ff"/>
                  </a:solidFill>
                  <a:latin typeface="Tahoma"/>
                </a:rPr>
                <a:t>ДЕЙСТВИЙ</a:t>
              </a:r>
              <a:endParaRPr b="0" lang="en-US" sz="25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6" name="_s6153"/>
            <p:cNvSpPr/>
            <p:nvPr/>
          </p:nvSpPr>
          <p:spPr>
            <a:xfrm>
              <a:off x="3254040" y="4103640"/>
              <a:ext cx="2635200" cy="2562120"/>
            </a:xfrm>
            <a:prstGeom prst="rect">
              <a:avLst/>
            </a:prstGeom>
            <a:solidFill>
              <a:srgbClr val="be7960">
                <a:alpha val="50000"/>
              </a:srgbClr>
            </a:solidFill>
            <a:ln w="57240">
              <a:solidFill>
                <a:srgbClr val="be79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3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300" spc="-1" strike="noStrike">
                  <a:solidFill>
                    <a:srgbClr val="33cc33"/>
                  </a:solidFill>
                  <a:latin typeface="Tahoma"/>
                </a:rPr>
                <a:t>Пассивная </a:t>
              </a:r>
              <a:endParaRPr b="0" lang="en-US" sz="23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300" spc="-1" strike="noStrike">
                  <a:solidFill>
                    <a:srgbClr val="33cc33"/>
                  </a:solidFill>
                  <a:latin typeface="Tahoma"/>
                </a:rPr>
                <a:t>обязанность</a:t>
              </a:r>
              <a:endParaRPr b="0" lang="en-US" sz="23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ffffff"/>
                  </a:solidFill>
                  <a:latin typeface="Tahoma"/>
                </a:rPr>
                <a:t>ВОЗДЕРЖАНИЕ</a:t>
              </a:r>
              <a:endParaRPr b="0" lang="en-US" sz="23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ffffff"/>
                  </a:solidFill>
                  <a:latin typeface="Tahoma"/>
                </a:rPr>
                <a:t>ОТ</a:t>
              </a:r>
              <a:endParaRPr b="0" lang="en-US" sz="23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ffffff"/>
                  </a:solidFill>
                  <a:latin typeface="Tahoma"/>
                </a:rPr>
                <a:t>СОВЕРШЕНИЯ </a:t>
              </a:r>
              <a:endParaRPr b="0" lang="en-US" sz="23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ffffff"/>
                  </a:solidFill>
                  <a:latin typeface="Tahoma"/>
                </a:rPr>
                <a:t>ОПРЕДЕЛЕННЫХ</a:t>
              </a:r>
              <a:endParaRPr b="0" lang="en-US" sz="23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ffffff"/>
                  </a:solidFill>
                  <a:latin typeface="Tahoma"/>
                </a:rPr>
                <a:t>ДЕЙСТВИЙ</a:t>
              </a:r>
              <a:endParaRPr b="0" lang="en-US" sz="23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3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3" name="_s6154"/>
            <p:cNvSpPr/>
            <p:nvPr/>
          </p:nvSpPr>
          <p:spPr>
            <a:xfrm>
              <a:off x="6328800" y="4103640"/>
              <a:ext cx="2635200" cy="2562120"/>
            </a:xfrm>
            <a:prstGeom prst="rect">
              <a:avLst/>
            </a:prstGeom>
            <a:solidFill>
              <a:srgbClr val="be7960">
                <a:alpha val="50000"/>
              </a:srgbClr>
            </a:solidFill>
            <a:ln w="57240">
              <a:solidFill>
                <a:srgbClr val="be79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33cc33"/>
                  </a:solidFill>
                  <a:latin typeface="Tahoma"/>
                </a:rPr>
                <a:t>Негативная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33cc33"/>
                  </a:solidFill>
                  <a:latin typeface="Tahoma"/>
                </a:rPr>
                <a:t>обязанность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НЕСТИ 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ЮРИДИЧЕСКУЮ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Tahoma"/>
                </a:rPr>
                <a:t>ОТВЕТСТВЕННОСТЬ </a:t>
              </a:r>
              <a:endParaRPr b="0" lang="en-US" sz="21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0" lang="en-US" sz="1600" spc="-1" strike="noStrike">
                  <a:solidFill>
                    <a:srgbClr val="ffffff"/>
                  </a:solidFill>
                  <a:latin typeface="Tahoma"/>
                </a:rPr>
                <a:t>ЗА </a:t>
              </a:r>
              <a:r>
                <a:rPr b="0" i="1" lang="en-US" sz="2000" spc="-1" strike="noStrike">
                  <a:solidFill>
                    <a:srgbClr val="33cc33"/>
                  </a:solidFill>
                  <a:latin typeface="Tahoma"/>
                </a:rPr>
                <a:t> </a:t>
              </a:r>
              <a:r>
                <a:rPr b="0" lang="en-US" sz="1900" spc="-1" strike="noStrike">
                  <a:solidFill>
                    <a:srgbClr val="ffffff"/>
                  </a:solidFill>
                  <a:latin typeface="Tahoma"/>
                </a:rPr>
                <a:t>ПРАВОНАРУШЕНИЯ</a:t>
              </a:r>
              <a:endParaRPr b="0" lang="en-US" sz="19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Задачи нотариат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Tahoma"/>
              </a:rPr>
              <a:t>Статья 1 Основ законодательства РФ о нотариате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отариат в Российской Федерации призван обеспечивать в соответствии с Конституцией Российской Федерации, Конституциями республик в составе Российской Федерации, настоящими Основами защиту прав и законных интересов граждан и юридических лиц путем совершения нотариусами предусмотренных законодательными актами нотариальных действий от имени Российской Федераци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Функции нотариат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179280" y="1600200"/>
          <a:ext cx="8507520" cy="4495680"/>
        </p:xfrm>
        <a:graphic>
          <a:graphicData uri="http://schemas.openxmlformats.org/drawingml/2006/table">
            <a:tbl>
              <a:tblPr/>
              <a:tblGrid>
                <a:gridCol w="4254480"/>
                <a:gridCol w="4253040"/>
              </a:tblGrid>
              <a:tr h="449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ffffff"/>
                          </a:solidFill>
                          <a:uFillTx/>
                          <a:latin typeface="Tahoma"/>
                        </a:rPr>
                        <a:t>Социальные: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cc66"/>
                        </a:buClr>
                        <a:buSzPct val="8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редупредительно-профилактическа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cc66"/>
                        </a:buClr>
                        <a:buSzPct val="8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равореализационна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cc66"/>
                        </a:buClr>
                        <a:buSzPct val="8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равоохранительна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cc66"/>
                        </a:buClr>
                        <a:buSzPct val="8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фискальна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ffffff"/>
                          </a:solidFill>
                          <a:uFillTx/>
                          <a:latin typeface="Tahoma"/>
                        </a:rPr>
                        <a:t>Содержательные: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cc66"/>
                        </a:buClr>
                        <a:buSzPct val="8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ffffff"/>
                          </a:solidFill>
                          <a:uFillTx/>
                          <a:latin typeface="Tahoma"/>
                        </a:rPr>
                        <a:t>правоустановительная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cc66"/>
                        </a:buClr>
                        <a:buSzPct val="8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удостоверительна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cc66"/>
                        </a:buClr>
                        <a:buSzPct val="8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хранительна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cc66"/>
                        </a:buClr>
                        <a:buSzPct val="8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юрисдикционна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Tahoma"/>
              </a:rPr>
              <a:t>Принципы:</a:t>
            </a:r>
            <a:br>
              <a:rPr sz="3200"/>
            </a:b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0" y="1052280"/>
            <a:ext cx="914400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овершение нотариальных действий кругом лиц, определенных Основами: ст.1 ОЗоН+ ст.48 К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законность: обязанность нотариуса точно и неукоснительно следовать предписаниям норм современного законодательства + ст.72 К + ст.1 ОзоН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храна ф и юл, заинтересованных в совершениии нотариальных действий +ст.2 К + ст.1 ОзоН (нотариус призван обеспечивать…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едение делопроизводства на ря, или на я, определенном законодательством Субъекта РФ (ст.68 К + ст.10 ОзоН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облюдение тайны нотариальных действий (ст.23К+ст.5 ОзоН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озмездность совершения нотариальных действий (ст.23 ОзоН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cc3300"/>
                </a:solidFill>
                <a:uFillTx/>
                <a:latin typeface="Palatino Linotype"/>
              </a:rPr>
              <a:t>Выводы:</a:t>
            </a:r>
            <a:br>
              <a:rPr sz="3600"/>
            </a:b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23640" y="981000"/>
            <a:ext cx="835164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Нотариат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как отрасль права  – это система правовых норм, регулирующих общественные отношения в сфере нотариального производств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Предмет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отариата как отрасли права – это общественные отношения, возникающие в сфере нотариального производства и связанные с осуществлением юридически значимых действий.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Метод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нотариата – императивно-диспозитивны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отариальное производство осуществляется в определенной, регламентированной законом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нотариальной процедуре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отариат  – дисциплина, тесно связанная с другими юридическими дисциплинами в системе российского прав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литератур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Tahoma"/>
              </a:rPr>
              <a:t>Основная учебная литератур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Гомола А.И. Нотариат : учебник для среднего профессионального образования. - 5-е изд., исправ. и доп. - М. : Академия.- 2008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ласов Ю.Н. Нотариат в Российской Федерации : учебник / Ю.Н. Власов, В.В. Калинин. - 2-е изд. - М. : ОМЕГА-Л.- 200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добед М.А.  Нотариат в Российской Федерации. - М. : ОМЕГА-ЭЛ.- 2005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Нормативно-правовые акты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0" y="1268280"/>
            <a:ext cx="914400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Конституция РФ 199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сновы законодательства РФ о нотариате от 11.02.1993 (с последующими изменениями и дополнениями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Гражданский процессуальный кодекс РФ от 14 ноября 2002 г. №138 - ФЗ. (с последующими изменениями и дополнениями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Гражданский кодекс РФ. ч. 1. от 30.11.2004 №51-ФЗ (с последующими изменениями и дополнениями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Гражданский кодекс РФ. ч. 2 от 26.01.1996 №146-ФЗ (с последующими изменениями и дополнениями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Гражданский кодекс РФ. ч. 3 от 26.11.2001 №146-ФЗ (с последующими изменениями и дополнениями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Гражданский кодекс РФ. ч. 4 от 18.12.2006.№230-ФЗ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емейный кодекс РФ от 29.12.1995 №223-ФЗ (с последующими изменениями и дополнениями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Закон Смоленской области «О нотариате» от 12.01.1999г (в ред. Закона Смоленской области от 22.06.2007 №57-з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00"/>
                </a:solidFill>
                <a:latin typeface="Tahoma"/>
              </a:rPr>
              <a:t>Цели: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пределить место нотариата в системе отраслей российского права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ыявить особенности нотариата как отрасл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cc3300"/>
                </a:solidFill>
                <a:uFillTx/>
                <a:latin typeface="Palatino Linotype"/>
              </a:rPr>
              <a:t>Основные понятия лекции: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Palatino Linotype"/>
              </a:rPr>
              <a:t>нотариат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Palatino Linotype"/>
              </a:rPr>
              <a:t>источники нотариата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Palatino Linotype"/>
              </a:rPr>
              <a:t>система нотариат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Palatino Linotype"/>
              </a:rPr>
              <a:t>Предмет нотариат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Palatino Linotype"/>
              </a:rPr>
              <a:t>Метод нотариат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Tahoma"/>
              </a:rPr>
              <a:t>периодизация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Нотариальная деятельность в России  до 1917 г. (XV-XVII вв)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нотариальная деятельность в России с</a:t>
            </a:r>
            <a:r>
              <a:rPr b="1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1917 по 1922г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Нотариат в 1922-1973г.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Нотариальная деятельность СССР в период с 1973 по 1993 г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Нотариальная деятельность РФ с 1993 г. по настоящее время.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Термин «нотариат» многозначен: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во-первых,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система органов и должностных лиц (нотариусов и иных лиц, имеющих право выполнения нотариальных функций), наделенных в соответствии с законом правом совершения нотариальных действий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во-вторых,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отрасль законодательства, нормами которой регулируется нотариальная деятельность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-третьих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, учебный курс, предметом которого является изучение вопросов нотариального производства и деятельности его участников в нотариальной сфер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Organization Chart 2"/>
          <p:cNvGrpSpPr/>
          <p:nvPr/>
        </p:nvGrpSpPr>
        <p:grpSpPr>
          <a:xfrm>
            <a:off x="468360" y="333360"/>
            <a:ext cx="8495640" cy="6262920"/>
            <a:chOff x="468360" y="333360"/>
            <a:chExt cx="8495640" cy="6262920"/>
          </a:xfrm>
        </p:grpSpPr>
        <p:cxnSp>
          <p:nvCxnSpPr>
            <p:cNvPr id="105" name="_s1028"/>
            <p:cNvCxnSpPr>
              <a:stCxn id="106" idx="0"/>
              <a:endCxn id="107" idx="2"/>
            </p:cNvCxnSpPr>
            <p:nvPr/>
          </p:nvCxnSpPr>
          <p:spPr>
            <a:xfrm flipV="1" rot="16200000">
              <a:off x="6071040" y="3793320"/>
              <a:ext cx="783360" cy="1691280"/>
            </a:xfrm>
            <a:prstGeom prst="bentConnector3">
              <a:avLst>
                <a:gd name="adj1" fmla="val 14528"/>
              </a:avLst>
            </a:prstGeom>
            <a:ln w="28440">
              <a:solidFill>
                <a:srgbClr val="8c0000"/>
              </a:solidFill>
              <a:miter/>
            </a:ln>
          </p:spPr>
        </p:cxnSp>
        <p:cxnSp>
          <p:nvCxnSpPr>
            <p:cNvPr id="108" name="_s1029"/>
            <p:cNvCxnSpPr>
              <a:stCxn id="109" idx="0"/>
              <a:endCxn id="107" idx="2"/>
            </p:cNvCxnSpPr>
            <p:nvPr/>
          </p:nvCxnSpPr>
          <p:spPr>
            <a:xfrm flipH="1" flipV="1" rot="5400000">
              <a:off x="4181400" y="3594600"/>
              <a:ext cx="783360" cy="2089440"/>
            </a:xfrm>
            <a:prstGeom prst="bentConnector3">
              <a:avLst>
                <a:gd name="adj1" fmla="val 14528"/>
              </a:avLst>
            </a:prstGeom>
            <a:ln w="28440">
              <a:solidFill>
                <a:srgbClr val="8c0000"/>
              </a:solidFill>
              <a:miter/>
            </a:ln>
          </p:spPr>
        </p:cxnSp>
        <p:cxnSp>
          <p:nvCxnSpPr>
            <p:cNvPr id="110" name="_s1030"/>
            <p:cNvCxnSpPr>
              <a:stCxn id="107" idx="0"/>
              <a:endCxn id="111" idx="2"/>
            </p:cNvCxnSpPr>
            <p:nvPr/>
          </p:nvCxnSpPr>
          <p:spPr>
            <a:xfrm flipV="1" rot="16200000">
              <a:off x="4631760" y="1696320"/>
              <a:ext cx="783360" cy="1187280"/>
            </a:xfrm>
            <a:prstGeom prst="bentConnector3">
              <a:avLst>
                <a:gd name="adj1" fmla="val 14574"/>
              </a:avLst>
            </a:prstGeom>
            <a:ln w="28440">
              <a:solidFill>
                <a:srgbClr val="8c0000"/>
              </a:solidFill>
              <a:miter/>
            </a:ln>
          </p:spPr>
        </p:cxnSp>
        <p:cxnSp>
          <p:nvCxnSpPr>
            <p:cNvPr id="112" name="_s1031"/>
            <p:cNvCxnSpPr>
              <a:stCxn id="113" idx="0"/>
              <a:endCxn id="111" idx="2"/>
            </p:cNvCxnSpPr>
            <p:nvPr/>
          </p:nvCxnSpPr>
          <p:spPr>
            <a:xfrm flipH="1" flipV="1" rot="5400000">
              <a:off x="2829960" y="1081440"/>
              <a:ext cx="783360" cy="2417760"/>
            </a:xfrm>
            <a:prstGeom prst="bentConnector3">
              <a:avLst>
                <a:gd name="adj1" fmla="val 14574"/>
              </a:avLst>
            </a:prstGeom>
            <a:ln w="28440">
              <a:solidFill>
                <a:srgbClr val="8c0000"/>
              </a:solidFill>
              <a:miter/>
            </a:ln>
          </p:spPr>
        </p:cxnSp>
        <p:sp>
          <p:nvSpPr>
            <p:cNvPr id="111" name="_s1032"/>
            <p:cNvSpPr/>
            <p:nvPr/>
          </p:nvSpPr>
          <p:spPr>
            <a:xfrm>
              <a:off x="1980360" y="333360"/>
              <a:ext cx="4895280" cy="15656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ffcc66"/>
              </a:solidFill>
              <a:miter/>
            </a:ln>
            <a:effectLst>
              <a:outerShdw dist="63504" dir="19383909" blurRad="0" rotWithShape="0">
                <a:srgbClr val="ffcc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ffffff"/>
                  </a:solidFill>
                  <a:latin typeface="Tahoma"/>
                </a:rPr>
                <a:t>нотариат</a:t>
              </a:r>
              <a:endParaRPr b="0" lang="en-US" sz="6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3" name="_s1033"/>
            <p:cNvSpPr/>
            <p:nvPr/>
          </p:nvSpPr>
          <p:spPr>
            <a:xfrm>
              <a:off x="468360" y="2682000"/>
              <a:ext cx="3089520" cy="15656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ff9900"/>
              </a:solidFill>
              <a:miter/>
            </a:ln>
            <a:effectLst>
              <a:outerShdw dist="63504" dir="19383909" blurRad="0" rotWithShape="0">
                <a:srgbClr val="ff99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ahoma"/>
                </a:rPr>
                <a:t>НАУКА </a:t>
              </a:r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" name="_s1034"/>
            <p:cNvSpPr/>
            <p:nvPr/>
          </p:nvSpPr>
          <p:spPr>
            <a:xfrm>
              <a:off x="4072680" y="2682000"/>
              <a:ext cx="3089520" cy="15656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ff9900"/>
              </a:solidFill>
              <a:miter/>
            </a:ln>
            <a:effectLst>
              <a:outerShdw dist="63504" dir="19383909" blurRad="0" rotWithShape="0">
                <a:srgbClr val="ff99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ahoma"/>
                </a:rPr>
                <a:t>Учебная </a:t>
              </a: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ahoma"/>
                </a:rPr>
                <a:t>дисциплина</a:t>
              </a: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" name="_s1035"/>
            <p:cNvSpPr/>
            <p:nvPr/>
          </p:nvSpPr>
          <p:spPr>
            <a:xfrm>
              <a:off x="1701720" y="5030640"/>
              <a:ext cx="3657960" cy="15656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63504" dir="19383909" blurRad="0" rotWithShape="0">
                <a:srgbClr val="ff33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Tahoma"/>
                </a:rPr>
                <a:t>Система необходимой для </a:t>
              </a:r>
              <a:endParaRPr b="0" lang="en-US" sz="19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Tahoma"/>
                </a:rPr>
                <a:t>подготовки специалиста</a:t>
              </a:r>
              <a:endParaRPr b="0" lang="en-US" sz="19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Tahoma"/>
                </a:rPr>
                <a:t>информации, соответствующей</a:t>
              </a:r>
              <a:endParaRPr b="0" lang="en-US" sz="19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Tahoma"/>
                </a:rPr>
                <a:t>конкретной учебной </a:t>
              </a:r>
              <a:endParaRPr b="0" lang="en-US" sz="19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Tahoma"/>
                </a:rPr>
                <a:t>программе</a:t>
              </a:r>
              <a:endParaRPr b="0" lang="en-US" sz="19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" name="_s1036"/>
            <p:cNvSpPr/>
            <p:nvPr/>
          </p:nvSpPr>
          <p:spPr>
            <a:xfrm>
              <a:off x="5649120" y="5030640"/>
              <a:ext cx="3314880" cy="15656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63504" dir="19383909" blurRad="0" rotWithShape="0">
                <a:srgbClr val="ff33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Доведение до обучаемых 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уже добытых наукой и 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проверенных практикой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знаний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0T13:25:28Z</dcterms:created>
  <dc:creator>Дом</dc:creator>
  <dc:description/>
  <dc:language>en-US</dc:language>
  <cp:lastModifiedBy>Admin</cp:lastModifiedBy>
  <dcterms:modified xsi:type="dcterms:W3CDTF">2024-10-31T15:54:15Z</dcterms:modified>
  <cp:revision>17</cp:revision>
  <dc:subject/>
  <dc:title>Лекция 1.</dc:title>
</cp:coreProperties>
</file>